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E69D-AFDF-4CC7-AB35-EF60C2B3120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in der Pflege ist entweder als Einzelapplikation erhältlich, oder in ein Informationssystem integrier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lässt sich keine klare Abgrenzung zwischen branchenneutralen Software-Produkten und branchenspezifischen Software-Produkten zie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zur Dienstplangest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en einer Mehrfacherfassung von Da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schriftliche Erfassung der Arbeitszeiten auf dem Dienstplan; anschließend nochmalige Erfassung in der Lohn-Software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nachweis in schriftlicher, digitaler For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matisierung von Arbeitsabläuf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ücksichtigung von Urlaubsregelungen, Dienstzeiten etc. in der Dienstplanung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esserung von Kontrollmechanism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ldung, falls zu wenige Mitarbeiter für einen Dienst geplant sin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er Datenaustausch mit anderen Einrichtun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nutzung der Daten in Bezug auf Auswertungsmöglichkei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An dieser Stelle sind die besonderen Datenschutz-Bestimmungen für das Gesundheitswesen zu beach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gebiet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anamn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nanzwes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ab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manag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uren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h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rn-Software (zu Ausbildungszweck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uswer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kalkulation der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 Bewertung der Kosten fließen 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Vorber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der 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ahl an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zum Testen der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fehlender Funktion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Anschaf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Anzahl der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dware (eventl. Server notwendig etc.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ende Kosten (Wartungsvertrag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einer Erweiterung (fertige Module oder individuelle Programmierung?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skosten für Mitarb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iterium: Software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ann die Hersteller von Pflege-Software-Produkten zur Zeit in drei Kategorien unterteil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selbst vorher (oder immer noch) in der Pflege gearbeitet haben und das Produkt aufgrund mangelnder Alternativen selbst programmiert hab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axisnahe Ideen + Kostengünsti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ogrammfehler (unausgereifte Softwar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die Marktnische erkannt haben, jedoch über kein oder wenig Hintergrundwissen im Gesundheitssektor verfü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nabhängige Programmentwicklung (keine Unternehmensspezifische Ausrichtung der Software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ventl. fehlendes fachliches Verständnis für die Bedürfnisse des Kun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Software-Unternehmen mit einem Team aus Spezialisten verschiedener Fachrichtun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tabile und ausgereifte Softwar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Produkt meist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gleichbarkeit / Auswah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 mangelt es an Markttransparenz. Jeder Kunde ist entweder auf Empfehlungen angewiesen oder muss sehr aufwendig die einzelnen Händler ausfindig machen und Produktdemos anforder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mangelt es noch an Bewertungs-Checklisten, die einen Vergleich durch den Kunden ermöglic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Checkliste, anhand derer die Funktionen einer Dienstplanungs-Software bewertet werden können (worauf muss ich achten?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00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00f04"/>
                </a:solidFill>
                <a:latin typeface="Arial"/>
              </a:rPr>
              <a:t>Ach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rtikel in Fachzeitschriften sind in den meisten Fällen durch den Hersteller selbst verfasst. Es handelt sich also nicht um Testberichte sondern um Eigenwerb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Ü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Ihr Suchwort bzw. die Suchwortkombinatio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fen Sie die Seiten der Hersteller auf und notieren Sie Bewertungskriterien mit deren Hilfe Sie dessen Software (Pflegeplanungs- bzw. Dienstplan-Software) mit der anderer Hersteller vergleichen könn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tieren Sie dabei die Internet-Adresse des Herstellers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eventuelle Besonderheiten, die Ihnen im Rahmen des Suchvorgangs begegnen.</a:t>
            </a:r>
            <a:br>
              <a:rPr sz="1600"/>
            </a:br>
            <a:br>
              <a:rPr sz="16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Hinweis: Die Ergebnisse der Recherche werden in einem gesonderten Dokument zusammen gefasst und unter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evfh-berlin.de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bereit ge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125360"/>
            <a:ext cx="7772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möchten in Ihrem Pflegeheim eine Dienstplanungs-Software (Gruppe 1) bzw. eine Pflegeplanungs- und Pflegedokumentations-Software einführen. Um einen ersten Überblick zu erhalten, suchen Sie im Internet nach Informationen, die Ihnen im Rahmen der Entscheidungsfindung weiterhelf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16T14:36:06Z</dcterms:modified>
  <cp:revision>80</cp:revision>
  <dc:subject/>
  <dc:title>PowerPoint Presentation</dc:title>
</cp:coreProperties>
</file>