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583236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9. Software IV: Branchenneutrale Software-Syst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30F4-C438-4630-906A-7AB0A442685A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ntrexx.de/" TargetMode="External"/><Relationship Id="rId2" Type="http://schemas.openxmlformats.org/officeDocument/2006/relationships/hyperlink" Target="http://www.intrexx.de/" TargetMode="External"/><Relationship Id="rId3" Type="http://schemas.openxmlformats.org/officeDocument/2006/relationships/hyperlink" Target="http://www.elo-digital.de/" TargetMode="External"/><Relationship Id="rId4" Type="http://schemas.openxmlformats.org/officeDocument/2006/relationships/hyperlink" Target="http://bscw.gmd.de/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20q.net/" TargetMode="External"/><Relationship Id="rId2" Type="http://schemas.openxmlformats.org/officeDocument/2006/relationships/hyperlink" Target="http://www.20q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ranchenneutrale Software-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ben Standard-Software findet sich ein breiter Markt an branchenneutralen Software-Syste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 der Sicht der Pflegeinformatik gehören zu den branchenneutralen Software-Systemen alle EDV-Anwendungen, die ausschließlich in betrieblichen Umgebungen eingesetzt werden und dabei nicht an einer Branche ausgerichte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nachfolgenden Ausführen lehnen sich an Stahlknecht / Hasenkamp an (siehe Literaturverzeichni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llbasiertes Schließen: Ablau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124000" y="1268280"/>
            <a:ext cx="4464000" cy="4032360"/>
            <a:chOff x="2124000" y="1268280"/>
            <a:chExt cx="4464000" cy="4032360"/>
          </a:xfrm>
        </p:grpSpPr>
        <p:sp>
          <p:nvSpPr>
            <p:cNvPr id="72" name=""/>
            <p:cNvSpPr/>
            <p:nvPr/>
          </p:nvSpPr>
          <p:spPr>
            <a:xfrm>
              <a:off x="2124000" y="126828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ateneingab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24000" y="472428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Vermutete Lös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60720" y="184464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ufnahme des Falls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n die Datenb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24000" y="357336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Ähnlichkeits-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naly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24000" y="242100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atenverglei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Retrieval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59280" y="357336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Korrektur der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ingabeda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2987280" y="1844640"/>
              <a:ext cx="2737080" cy="2879640"/>
              <a:chOff x="2987280" y="1844640"/>
              <a:chExt cx="2737080" cy="2879640"/>
            </a:xfrm>
          </p:grpSpPr>
          <p:sp>
            <p:nvSpPr>
              <p:cNvPr id="79" name=""/>
              <p:cNvSpPr/>
              <p:nvPr/>
            </p:nvSpPr>
            <p:spPr>
              <a:xfrm>
                <a:off x="2987640" y="184464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987640" y="299736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987640" y="414828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851280" y="3860640"/>
                <a:ext cx="100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2987280" y="2133720"/>
                <a:ext cx="187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5724360" y="2420640"/>
                <a:ext cx="0" cy="11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jeden Bereiche branchenneutraler Software-Systeme bietet der Markt eine Vielzahl von Anwendungen an. Achten Sie daher 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oftware muss alle Funktionen erfüllen, die Sie vorher als Anforderung definiert haben (Beispiel: Finanzbuchhaltung muss den „Grundsätzen ordnungsgemäßer Buchführung (GoB) - § 239 Abs. 2 HGB“ Rechnung trag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ährend der Arbeitsabläufe müssen die Daten vor technischen Fehlern geschützt sei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nschutzrichtlinien müssen gewährleistet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ranchenneutrale Software-Systeme: Kategoris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Gesundheitswesen sind folgende branchenneutrale Software-Systeme für die Praxis releva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ministrations- und Dispositions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e zum elektronischen Informationsaustau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ssensbasierte 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dministrations- und Dispositions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ministrationssyste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rationalisieren vorhandene Arbeitsabläuf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- und Leistungsrechn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inanzbuchhaltung (Debitoren- und Kreditorenbuchhaltu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ohn- und Gehaltsabrechn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spositionssyste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ienen der Vorbereitung von Entscheidungsfindungsprozessen. D. h. das System vereinfacht Aufgabenstellungen oder erledigt diese vollst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quidationsplanung im Finanzwe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e zum elektronischen Informationsaustaus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n betrieblichen Informationsaustausch kennzeichnend ist 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austausch zwischen geschlossenen Benutzergrupp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eilnehm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m betrieblichen Informationsaustausch können s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arbeiter (inter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unden (Lieferwe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eferanten (Bestellwe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nken (Zahlungsverkeh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hörden (Meldewe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ysteme unterstützen andere im Betrieb verwendete Software-Systeme, indem Sie eine direkte Schnittstelle zwischen den Teilnehmern anbieten.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: Der ambulante Pflegedienst A verwendet eine Software zur Buchführung. Durch den Einsatz von Systemen, die den elektronischen Informationsaustausch ermöglichen (z.B. DATEV), steigert sich die Produktivität erheb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e zum elektronischen Informationsaustaus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facheingaben werden auf ein Minimum reduzi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Geschwindigkeit der Kommunikation zwischen den Teilnehmern wird erheblich gesteigert. Dadurch kön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twortzeiten verkürz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Kundenbindung gesteiger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gerbestände reduziert 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ttbewerbsvorteile geschaff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problem im Gesundheitswes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zeitige Datenschutzrichtlinien verhindern oftmals die elektronische Datenübermittl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e zum elektronischen Informationsaustaus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tent Management 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rexx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://www.intrexx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kumenten-Management-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LO-Office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www.elo-digital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SCW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http://bscw.gmd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e zum elektronischen Informationsaustaus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lectronic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grif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„Electronic Business“ wird verwendet, wenn alle Geschäftsprozesse per Internet zwischen den Geschäftspartnern stattfinden. Ausgenommen hiervon sind Prozesse, die nicht per Datenübermittlung stattfinden könn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unterteilt i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rei Bereich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es Electronic Busines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-2-B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abwicklung zwischen Unterneh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-2-C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abwicklung zwischen dem eigenen Unternehmen und dem Kun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-2-A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abwicklung zwischen dem eigenen Unternehmen und Verwaltungseinrichtungen</a:t>
            </a:r>
            <a:br>
              <a:rPr sz="1400"/>
            </a:b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läuterung: B = Business; C = Consumer; A =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aussetz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Alle Beteiligten müssen über die entsprechenden technischen und softwareseitigen Einrichtungen verfüg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ssensbasierte 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ssensbasierte Systeme dienen der Auswertung menschlichen Wissens, das in gespeicherter Form bereit steht. Dabei werden Methoden der Künstlichen Intelligienz (KI) verwend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Künstliche Intelligenz beschäftigt sich mit der Umsetzung menschlicher (intelligenter) Verhaltensweisen in Computer-Programme, die diese Verhaltensweisen reproduzier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3357720"/>
            <a:ext cx="7772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wichtigsten Anwendungen für den Bereich der Pflege / Medizin si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llbasiertes Schließen (Differential-Diagnosti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verarbeitung (Diagnosti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achverarbeitung (Schreibarbeiten, Gerätesteueru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obotik (O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llbasiertes Schließen: Grundla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„Case Based Reasoning (CBR)“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fahren, mit dem Probleme gelöst werden, indem auf Erfahrungswissen zurück gegriffen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bei enthält eine Datenbank den sog. „Fallspeicher“ oder „Falldatenbasis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System erfragt vom Nutzer unterschiedliche Variab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ießend werden die Eingaben mit der Datenbasis vergli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ießlich erhält der Nutzer die „Antwort“. Sie ist das Ergebnis der verglichenen Daten mit der höchsten Übereinstimm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Erweiterung der Datenbasis werden die Eingaben als neue Lösungsmöglichkeiten in die Datenbank mit aufgenommen (Selbstlerneffekt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20q.net/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denken sich einen Gegenstand aus, beantworten anschließend 20 Fragen und der Computer errät Ihren Gegensta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4-09T20:57:22Z</dcterms:modified>
  <cp:revision>77</cp:revision>
  <dc:subject/>
  <dc:title>PowerPoint Presentation</dc:title>
</cp:coreProperties>
</file>