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. Informationsbeschaffung i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204B-124C-4975-A530-12822B7BAF6B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de/" TargetMode="External"/><Relationship Id="rId2" Type="http://schemas.openxmlformats.org/officeDocument/2006/relationships/hyperlink" Target="http://www.metager.de/" TargetMode="External"/><Relationship Id="rId3" Type="http://schemas.openxmlformats.org/officeDocument/2006/relationships/hyperlink" Target="http://www.metager.de/" TargetMode="External"/><Relationship Id="rId4" Type="http://schemas.openxmlformats.org/officeDocument/2006/relationships/hyperlink" Target="http://www.metager.de/" TargetMode="External"/><Relationship Id="rId5" Type="http://schemas.openxmlformats.org/officeDocument/2006/relationships/hyperlink" Target="http://www.web.de/" TargetMode="External"/><Relationship Id="rId6" Type="http://schemas.openxmlformats.org/officeDocument/2006/relationships/hyperlink" Target="http://www.web.de/" TargetMode="External"/><Relationship Id="rId7" Type="http://schemas.openxmlformats.org/officeDocument/2006/relationships/hyperlink" Target="http://www.web.de/" TargetMode="External"/><Relationship Id="rId8" Type="http://schemas.openxmlformats.org/officeDocument/2006/relationships/hyperlink" Target="http://groups.google.de/" TargetMode="External"/><Relationship Id="rId9" Type="http://schemas.openxmlformats.org/officeDocument/2006/relationships/hyperlink" Target="http://groups.google.de/" TargetMode="External"/><Relationship Id="rId10" Type="http://schemas.openxmlformats.org/officeDocument/2006/relationships/hyperlink" Target="http://groups.google.de/" TargetMode="External"/><Relationship Id="rId11" Type="http://schemas.openxmlformats.org/officeDocument/2006/relationships/hyperlink" Target="http://www.dimdi.de/" TargetMode="External"/><Relationship Id="rId12" Type="http://schemas.openxmlformats.org/officeDocument/2006/relationships/hyperlink" Target="http://www.dimdi.de/" TargetMode="External"/><Relationship Id="rId13" Type="http://schemas.openxmlformats.org/officeDocument/2006/relationships/hyperlink" Target="http://www.dimdi.de/" TargetMode="External"/><Relationship Id="rId14" Type="http://schemas.openxmlformats.org/officeDocument/2006/relationships/hyperlink" Target="http://www.wer-weiss-was.de/" TargetMode="External"/><Relationship Id="rId15" Type="http://schemas.openxmlformats.org/officeDocument/2006/relationships/hyperlink" Target="http://www.wer-weiss-was.de/" TargetMode="External"/><Relationship Id="rId16" Type="http://schemas.openxmlformats.org/officeDocument/2006/relationships/hyperlink" Target="http://www.wer-weiss-was.de/" TargetMode="External"/><Relationship Id="rId17" Type="http://schemas.openxmlformats.org/officeDocument/2006/relationships/hyperlink" Target="http://www.hmanage.de/" TargetMode="External"/><Relationship Id="rId18" Type="http://schemas.openxmlformats.org/officeDocument/2006/relationships/hyperlink" Target="http://www.hmanage.de/" TargetMode="External"/><Relationship Id="rId19" Type="http://schemas.openxmlformats.org/officeDocument/2006/relationships/hyperlink" Target="http://www.walle.net/" TargetMode="External"/><Relationship Id="rId20" Type="http://schemas.openxmlformats.org/officeDocument/2006/relationships/hyperlink" Target="http://www.walle.net/" TargetMode="External"/><Relationship Id="rId21" Type="http://schemas.openxmlformats.org/officeDocument/2006/relationships/hyperlink" Target="http://www.walle.net/" TargetMode="External"/><Relationship Id="rId22" Type="http://schemas.openxmlformats.org/officeDocument/2006/relationships/hyperlink" Target="news:de.sci.medizin.pflege" TargetMode="External"/><Relationship Id="rId23" Type="http://schemas.openxmlformats.org/officeDocument/2006/relationships/hyperlink" Target="http://www.carelit.de/" TargetMode="External"/><Relationship Id="rId24" Type="http://schemas.openxmlformats.org/officeDocument/2006/relationships/hyperlink" Target="http://www.carelit.de/" TargetMode="External"/><Relationship Id="rId25" Type="http://schemas.openxmlformats.org/officeDocument/2006/relationships/hyperlink" Target="http://www.carelit.de/" TargetMode="External"/><Relationship Id="rId2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otlight.de/" TargetMode="External"/><Relationship Id="rId2" Type="http://schemas.openxmlformats.org/officeDocument/2006/relationships/hyperlink" Target="http://www.spotlight.de/" TargetMode="External"/><Relationship Id="rId3" Type="http://schemas.openxmlformats.org/officeDocument/2006/relationships/hyperlink" Target="http://www.spotlight.de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irchwitz.de/~amk/dni/netiquette" TargetMode="External"/><Relationship Id="rId2" Type="http://schemas.openxmlformats.org/officeDocument/2006/relationships/hyperlink" Target="http://www.wschmidhuber.de/realname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e-drehscheibe.net/" TargetMode="External"/><Relationship Id="rId2" Type="http://schemas.openxmlformats.org/officeDocument/2006/relationships/hyperlink" Target="http://www.pflegelinks.de/" TargetMode="External"/><Relationship Id="rId3" Type="http://schemas.openxmlformats.org/officeDocument/2006/relationships/hyperlink" Target="http://www.wernerschell.de/" TargetMode="External"/><Relationship Id="rId4" Type="http://schemas.openxmlformats.org/officeDocument/2006/relationships/hyperlink" Target="http://www.wernerschell.de/" TargetMode="External"/><Relationship Id="rId5" Type="http://schemas.openxmlformats.org/officeDocument/2006/relationships/hyperlink" Target="http://www.wernerschell.de/" TargetMode="External"/><Relationship Id="rId6" Type="http://schemas.openxmlformats.org/officeDocument/2006/relationships/hyperlink" Target="http://www.medizinindex.de/" TargetMode="External"/><Relationship Id="rId7" Type="http://schemas.openxmlformats.org/officeDocument/2006/relationships/hyperlink" Target="http://www.afoeg.bayern.de/" TargetMode="External"/><Relationship Id="rId8" Type="http://schemas.openxmlformats.org/officeDocument/2006/relationships/hyperlink" Target="http://www.dgn.de/" TargetMode="External"/><Relationship Id="rId9" Type="http://schemas.openxmlformats.org/officeDocument/2006/relationships/hyperlink" Target="http://www.dip-home.de/" TargetMode="External"/><Relationship Id="rId10" Type="http://schemas.openxmlformats.org/officeDocument/2006/relationships/hyperlink" Target="http://www.dbfk.de/" TargetMode="External"/><Relationship Id="rId11" Type="http://schemas.openxmlformats.org/officeDocument/2006/relationships/hyperlink" Target="http://www.dkgev.de/" TargetMode="External"/><Relationship Id="rId12" Type="http://schemas.openxmlformats.org/officeDocument/2006/relationships/hyperlink" Target="http://www.kliniken.de/" TargetMode="External"/><Relationship Id="rId13" Type="http://schemas.openxmlformats.org/officeDocument/2006/relationships/hyperlink" Target="http://www.doccheck.de/" TargetMode="External"/><Relationship Id="rId14" Type="http://schemas.openxmlformats.org/officeDocument/2006/relationships/hyperlink" Target="http://www.doccheck.de/" TargetMode="External"/><Relationship Id="rId15" Type="http://schemas.openxmlformats.org/officeDocument/2006/relationships/hyperlink" Target="http://www.doccheck.de/" TargetMode="External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manage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und passive Su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kt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begeben sich auf die Such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oogle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a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metager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katalog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www.web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n Newsgroups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groups.google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suche über das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www.dimdi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Foren zum Thema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www.wer-weiss-was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6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durch aktive Teilnahme in Medien, die unter „passive Suche“ genann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lassen für sich suchen bzw. profitieren vom Wissen der And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-Abo (z.B. Qualitätsmanagement in der Pflege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7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8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en-Abo (z.B. NurseGer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9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0"/>
              </a:rPr>
              <a:t>www.walle.net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1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-Abo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2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 Suchdienst (z.B. Literaturrecherche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4"/>
              </a:rPr>
              <a:t>www.careli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skussionsf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die Diskussion zwischen einer Gruppe von Teilnehm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iskussion findet zeitversetzt statt (im Gegensatz zum Cha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Forum wird auf einer Internet-Seite bereit gestellt. Daher bedarf es keiner besonderen Software zur Nu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spotligh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Handha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Installation einer Software erforder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ist nicht ermittelbar, wie viele Teilnehmer an der Diskussion beteilig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roße Unsicherheit bezüglich der Nachhaltigkeit. (Die Beiträge bleiben nur so lange erhalten, bis der Besitzer der Domain entscheidet, alles zu löschen. D.h. er/sie hat die alleinige Entscheidungsmach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ilingli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Verteiler in dem Diskussionen zu einem bestimmten Thema geführt werden (z.B. NurseGer: Mailingliste zum Thema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an der Mailingliste teilnehmen, erfordert dies in jedem Fall eine Anmeld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meldung geschieht durch senden einer E-Mail an eine vorgegebene E-Mail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E-Mail-Adresse erfährt man auf der Internet-Seite des Anbi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muss in der Betreffzeile das Wort „subscribe“ angeg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dem Zeitpunkt der Anmeldung, erhält man alle E-Mails, die man selbst und andere Teilnehmer an den Verteiler se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sich wieder abmelden, so geschieht dies durch senden einer E-Mail an eine vorgegebene E-Mail-Adresse. Meist gibt man dann in der Betreffzeile das Wort „unsubscribe“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Suche in den Beiträgen ist nur möglich, wenn der Betreiber ein Archiv auf einer Internet-Seite einr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Nachrichtenverwaltung erweist sich als sehr umständ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s mit vielen Teilnehmern verstopfen den eigenen E-Mail-Accou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gro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 zur Information im Umgang mit Newsgrou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eln zur Kommunikation per Newsgroup (sog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tiquet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 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kirchwitz.de/~amk/dni/netiqu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tieren im Use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learn.to/qu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 des Realnamens: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wschmidhuber.de/realnam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unden werden“ als Suchstrate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werden gefunden, wenn S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Ihrem Realnamen in Newsgroups pos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eigene Internet-Seite bereit ste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hre E-Mail-Adresse verb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ch einen „Namen machen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Gedächtnis blei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andere als Kontaktperson bereit stehen (und daraus auch zu lern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Kompetenz transparent ma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anderen (im Internet) nicht bekann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verp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en Suchdienste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Einstiegsportale ke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angrenzenden Bereichen (Medizin, BWL, Recht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fachrelevanten Newsletter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Newsgroups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in Zukunft auf relevante Mailing-Li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eten Sie Ihrem Kunden einen eigenen Service (z.B. Newsletter)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Zulieferern, die Bestellungen per Internet ermögl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s Preisvergleich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r Disku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nach kann ich suche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Th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thema der Recherche (z.B.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erthema der Recherche (z.B.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thema der Recherche (z.B. Ernährung bei verschiedenen Krankheitsbild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hema der Recherche (z.B. Ernährungsempfehlungen zum Krankheitsbild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Objek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kumente (z.B. Krankheitsbeschreibung, Fallbeispiele, Erfahrungsberich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en (z.B. Statistische Altersverteil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s (z.B. Fotos zu Stadien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s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(z.B. Software zur Bewert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Hilfen zur Suche im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ibel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uchfibel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ug Suche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klug-such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@-web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at-web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glischsprachi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leut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isleut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aucoup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beaucoup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archengine Wat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earchenginewatc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mit Hilfe von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agwortsuche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bination von Schlagwörtern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grenzung der Schlagworte auf eine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main erraten und in der Browser-Adressleiste eingeben (mit den Endungen .de, .com, .net, .org, .inf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Beiträgen eines Autors per Name oder E-Mail-Adre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ografische Suche (für Deutschland www.entry.de oder für Berlin www.unser-berlin.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ronologische Suche (z.B. bei der Suche in Newsgroups sehr effizi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nach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alsei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rmenseiten zum Thema (Herst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lis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chzeitschrif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ungsberich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chverlag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ungseinrichtungen zum Thema (Hochschulen, Weiterbildungsinstit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ufsverbänd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erungsseiten zum Thema (z.B. Ministeri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rktforschungsinstitute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saurus und/oder Glossar zum Thema (um weitere Schlagworte zu find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tor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n Experten zum Thema (z.B. regionale Experten, die man eventl. befragen kan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prachlichen Seiten zum Thema (d.h. Sie müssen die entsprechenden Übersetzungen der Fachbegriffe kenn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tiegsportale für Pflegefachkräf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rehscheib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die-drehscheib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links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pflegelinks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rech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wernerschell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umfangreiche Linksamml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dizinindex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http://www.medizininde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hilfen Öffentlicher Gesundheitsdien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http://www.afoeg.bayer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GN - Deutsches Gesundheitsnetz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www.dg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s Institut für Angewandte Pflegeforschung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http://www.dip-home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f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http://www.dbfk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 Krankenhausgesellschaf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www.dkgev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iniken.d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http://www.klinik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Chec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www.doccheck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nach Anmeldung u.a. kostenloser Zugang zur Roten Li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rumente der Information im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 den „Internet-Seiten“ finden sich noch weitere Dienste zur Informationsbeschaffung im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einen besteht die Möglichkeit der technischen Trennung der Internet-Dienste WWW, Usenet, FTP, E-Mail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nderen finden sich jedoch auch Dienste, die teilweise mehrere Dienste gleichzeitig benutzen und daher nicht technisch voneinander getrenn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Q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(Frequently Asked Questions; dt. Häufig gestellte Fr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sammlung zu einem bestimmten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erden Antworten auf einzelne Fragestellungen geg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in Eigeninitiative von einer Privatperson betreut (auf freiwilliger Ba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vielen Fällen werden FAQ‘s auch als downloadbare Datei angeboten und können daher offline durchsuch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utung im Rahmen einer Recherche: Eingabe in der Suchmaschine „thematisches Suchwort“ und das Suchwort „faq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ggf. auf ein Aktualisierungsdatum, um veraltete Informationen auszuschließ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Eine FAQ zum Thema Mobiltelefone die 1997 zum letzten Mal aktualisiert worden ist, wird Ihnen vermutlicherweise keine relevanten Informationen mehr bie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l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einem bestimmten Thema werden per E-Mail zugesand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cheinungsweise: regelmäßig oder unregelmäß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liche Qualität: aktuell oder Wiederholung von altem Wissen und/oder Wer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Nicht alle Newsletter können wieder abbestellt werden! Dies gilt insbesondere für Newsletter, die vorrangig Werbezwecken di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den E-Mails unerwünscht zugesandt, spricht man auch von so genannter „Spam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n Med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gesschau (tägliche Informationen aus aller Wel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Informat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der Zeitschrift Computerwo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smanagement in der Pflege (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9T23:49:52Z</dcterms:modified>
  <cp:revision>95</cp:revision>
  <dc:subject/>
  <dc:title>PowerPoint Presentation</dc:title>
</cp:coreProperties>
</file>