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. Software III: Internet-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8074-DC17-43B4-95CB-F1B14DFFA5AE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vfh-berlin.de/" TargetMode="External"/><Relationship Id="rId2" Type="http://schemas.openxmlformats.org/officeDocument/2006/relationships/hyperlink" Target="mailto:info@evfh-berlin.de" TargetMode="External"/><Relationship Id="rId3" Type="http://schemas.openxmlformats.org/officeDocument/2006/relationships/hyperlink" Target="ftp://ftp.microsoft.de/" TargetMode="External"/><Relationship Id="rId4" Type="http://schemas.openxmlformats.org/officeDocument/2006/relationships/hyperlink" Target="news:de.sci.medizin.pflege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ews.cis.dfn.de/" TargetMode="External"/><Relationship Id="rId2" Type="http://schemas.openxmlformats.org/officeDocument/2006/relationships/hyperlink" Target="http://www.google.de/" TargetMode="External"/><Relationship Id="rId3" Type="http://schemas.openxmlformats.org/officeDocument/2006/relationships/hyperlink" Target="http://usenet.freenet.de/" TargetMode="External"/><Relationship Id="rId4" Type="http://schemas.openxmlformats.org/officeDocument/2006/relationships/hyperlink" Target="http://usenet.freenet.de/" TargetMode="External"/><Relationship Id="rId5" Type="http://schemas.openxmlformats.org/officeDocument/2006/relationships/hyperlink" Target="http://usenet.freenet.de/" TargetMode="External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Allgeme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teilt sich in folgende funktionale Bereiche 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WW (= gemeinhin als „Internet“ bezeichn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 (= elektronische Po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groups (= Usen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TP (= Dateiübertrag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 (z.B. Telnet, Goph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 dem technischen Gesichtspunkt handelt es sich dabei um unterschiedliche Protokoll-Ebe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 diesem Grund bedarf es verschiedener Software-Produkte, um die jeweilige Funktion nutzen zu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208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Nutzung des Internet basiert auf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wei Prinzipi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Informationen werden als Hypertext-Dokumente angeze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Aufruf einer Information benötigt man eine gültige UR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ypertex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, der als Datei vorlie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r nicht linear aufgebaut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 wird durch Hyperlinks errei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, der mit dem Mauszeiger angeklickt werden ka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zu einer anderen Stelle innerhalb des Dokumentes füh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 zu einem anderen Hypertext-Dokument füh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kürzung für „Uniform Resource Locator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URL beschreibt den Ablageort einer Datei (Information, Software, Bild etc.) auf einem Rech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URL ist deshalb einmalig und weltweit gült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evfh-berlin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Internet-Seite der Ev. Fachhochschule Berl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mailto:info@evfh-berlin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Allgemeine E-Mail-Adresse der EF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ftp://ftp.microsoft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Dateidownload von Microsof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news:de.sci.medizin.pfleg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Newsgroup Fachbereich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WWW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-Brows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Browsers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nzeigen von Hypertext-Dokument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ch aufrufen einer gültigen UR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0920" y="2637000"/>
            <a:ext cx="48960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E-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r E-Mail Protokolle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-Mail-Cli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E-Mail-Clients best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Senden von elektronischen Nachrichten (Protokoll SMTP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Empfangen von elektronischen Nachrichten (Protokoll PO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ötigte Da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P3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MTP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E-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69850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Usenet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wsread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Newsreaders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Verwaltung der persönlich genutzten Newsgroup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m Anzeigen und der Teilnahme an Diskuss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ötigte Da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server (z.B. news.cis.dfn.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server finden Sie entweder bei Ihrem Provider (T-Online, AOL etc.) oder Sie nutzen den Newsserver der FU-Berlin (kostenlos). Hierfür ist eine Anmeldung unter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news.cis.dfn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twe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ruf von Newsgroups ohne Newsreader über „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googl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&gt; Groups“ oder über „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usenet.freene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1374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FTP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TP-Cli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FTP-Client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nzeigen von Dateiverzeichniss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der Möglichkeit des Up- und Downloads von Date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form aFT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FTP = anonymus 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TP-Adressen, die für den anonymen Zugriff freigegeb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mmer dann genutzt, wenn keine personenbezogene Identifizierung des Nutzers verlang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wnload von Dateien ist in der Regeln in allen Verzeichnissen erlaub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load von Dateien ist nicht erlaubt, oder nur in ein spezielles Verzeichn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findet sich in jedem Verzeichnis eine Datei mit der Bezeichnung „index.txt“ oder „readme.txt“, die Erläuterungen zu den einzelnen Dateien enthä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13T11:08:14Z</dcterms:modified>
  <cp:revision>67</cp:revision>
  <dc:subject/>
  <dc:title>PowerPoint Presentation</dc:title>
</cp:coreProperties>
</file>