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6. Rechtliche Grundla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8941-A657-450A-A2FF-ADD42E4ABE82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0-20T17:35:36Z</dcterms:modified>
  <cp:revision>68</cp:revision>
  <dc:subject/>
  <dc:title>PowerPoint Presentation</dc:title>
</cp:coreProperties>
</file>