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4. Software-Entwicklung I: Mod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3EA7-69A6-4E19-8D36-9FAD99AE1B0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itionierung der/des Diplom-Pflegewir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 befindet sich die Pflegefachkraft im Modellierungsproz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ussdia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6:12Z</dcterms:modified>
  <cp:revision>69</cp:revision>
  <dc:subject/>
  <dc:title>PowerPoint Presentation</dc:title>
</cp:coreProperties>
</file>