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. Informations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FDE6-051D-4581-8445-35D60FD207C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lösung in der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arf eines Vertrauensverhältnisses zwischen Leitung und Mitarbeitern im Betri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darf keine Angst haben, etwas nicht zu könn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müssen erkannt und erfass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fehler -&gt; eventl. Verbesserung der Bediener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Fehler -&gt; eventl. 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nfalls bleiben die Fehler besteh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9:40Z</dcterms:modified>
  <cp:revision>66</cp:revision>
  <dc:subject/>
  <dc:title>PowerPoint Presentation</dc:title>
</cp:coreProperties>
</file>