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Software VI: Krankenhaus(Informationssyste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FDA2-D697-4A99-84E8-5F954D64134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s-ag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H-Inform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SS-KIS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boss-ag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3T15:36:35Z</dcterms:modified>
  <cp:revision>64</cp:revision>
  <dc:subject/>
  <dc:title>PowerPoint Presentation</dc:title>
</cp:coreProperties>
</file>