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9.png" ContentType="image/png"/>
  <Override PartName="/ppt/media/image18.wmf" ContentType="image/x-wmf"/>
  <Override PartName="/ppt/media/image14.wmf" ContentType="image/x-wm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.jpeg" ContentType="image/jpeg"/>
  <Override PartName="/ppt/media/image7.png" ContentType="image/pn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Pflegeinformatik: Einordnung und Grund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121C-52EF-471A-A6A5-D05D82BFBB64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op500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ckpunkte der Informatik-Gesch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 1960: Informatik als Teil der Wissenschaftsdisziplinen Logik, Mathematik, Elektrotechnik u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k seit 1960 eigenständige Wissensch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Eckpunk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50 v. Chr.: Verwendung des Abak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774: Mechanische Rechenmas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37: Z1 (Hersteller Conrad Zu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1: Der erste Personal Computer (Hersteller 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2: Commodore 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Apple Macinto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6: Commodore Ami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90: Breite Nutzung des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Wirtschafts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Konzep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ntwickl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inführ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Wartung von rechnergestützten betrieblich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form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unik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t sich allgemein auf Wirtschaftsbetriebe und Verwal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betrieblichen Aufgaben bzw. Abläuf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33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Spezialgebiet der Wirtschafts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teilweise das Wissen der Medizin-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in Deutschla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och kei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flege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zentrierte Anwend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s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perten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Aufgaben bzw. Abläufe der Pfleg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finition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4608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flegeinformatik ist eine Kombination aus Informatik als Grundlagenwissenschaft, Informatik als angewandte Wissenschaft und aus Pflegewissenschaft.</a:t>
            </a:r>
            <a:br>
              <a:rPr sz="2000"/>
            </a:b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ie unterstützt das Managen und Verarbeiten von Pflegedaten, Informationen und Wissen, um die pflegerische Praxis effektiv gestalten zu können.“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Graves und Corcoran 1989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 Hannah et al. 2002, S.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38560" y="519120"/>
            <a:ext cx="36003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ordnung der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722840" y="3681360"/>
            <a:ext cx="3809520" cy="2325600"/>
            <a:chOff x="4722840" y="3681360"/>
            <a:chExt cx="3809520" cy="2325600"/>
          </a:xfrm>
        </p:grpSpPr>
        <p:cxnSp>
          <p:nvCxnSpPr>
            <p:cNvPr id="105" name="_s20511"/>
            <p:cNvCxnSpPr>
              <a:stCxn id="106" idx="1"/>
              <a:endCxn id="107" idx="2"/>
            </p:cNvCxnSpPr>
            <p:nvPr/>
          </p:nvCxnSpPr>
          <p:spPr>
            <a:xfrm rot="10800000">
              <a:off x="5614200" y="4085280"/>
              <a:ext cx="333360" cy="171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0509"/>
            <p:cNvCxnSpPr>
              <a:stCxn id="109" idx="1"/>
              <a:endCxn id="107" idx="2"/>
            </p:cNvCxnSpPr>
            <p:nvPr/>
          </p:nvCxnSpPr>
          <p:spPr>
            <a:xfrm rot="10800000">
              <a:off x="5614200" y="4085280"/>
              <a:ext cx="333360" cy="107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20504"/>
            <p:cNvCxnSpPr>
              <a:stCxn id="111" idx="1"/>
              <a:endCxn id="107" idx="2"/>
            </p:cNvCxnSpPr>
            <p:nvPr/>
          </p:nvCxnSpPr>
          <p:spPr>
            <a:xfrm rot="10800000">
              <a:off x="5614200" y="4085280"/>
              <a:ext cx="333360" cy="435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20500"/>
            <p:cNvSpPr/>
            <p:nvPr/>
          </p:nvSpPr>
          <p:spPr>
            <a:xfrm>
              <a:off x="4722840" y="3681360"/>
              <a:ext cx="1784520" cy="404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20501"/>
            <p:cNvSpPr/>
            <p:nvPr/>
          </p:nvSpPr>
          <p:spPr>
            <a:xfrm>
              <a:off x="5947920" y="4314960"/>
              <a:ext cx="2584440" cy="411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20508"/>
            <p:cNvSpPr/>
            <p:nvPr/>
          </p:nvSpPr>
          <p:spPr>
            <a:xfrm>
              <a:off x="5947920" y="495576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Medizinische 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20510"/>
            <p:cNvSpPr/>
            <p:nvPr/>
          </p:nvSpPr>
          <p:spPr>
            <a:xfrm>
              <a:off x="5947920" y="559584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3760" y="1657080"/>
            <a:ext cx="3693600" cy="3233160"/>
            <a:chOff x="383760" y="1657080"/>
            <a:chExt cx="3693600" cy="3233160"/>
          </a:xfrm>
        </p:grpSpPr>
        <p:sp>
          <p:nvSpPr>
            <p:cNvPr id="113" name="_s20515"/>
            <p:cNvSpPr/>
            <p:nvPr/>
          </p:nvSpPr>
          <p:spPr>
            <a:xfrm>
              <a:off x="383760" y="2120040"/>
              <a:ext cx="2768040" cy="2770200"/>
            </a:xfrm>
            <a:prstGeom prst="donut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20516"/>
            <p:cNvSpPr/>
            <p:nvPr/>
          </p:nvSpPr>
          <p:spPr>
            <a:xfrm>
              <a:off x="3522960" y="27658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20517"/>
            <p:cNvSpPr/>
            <p:nvPr/>
          </p:nvSpPr>
          <p:spPr>
            <a:xfrm>
              <a:off x="730440" y="2466720"/>
              <a:ext cx="2076480" cy="2077560"/>
            </a:xfrm>
            <a:prstGeom prst="donut">
              <a:avLst>
                <a:gd name="adj" fmla="val 1666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20518"/>
            <p:cNvSpPr/>
            <p:nvPr/>
          </p:nvSpPr>
          <p:spPr>
            <a:xfrm>
              <a:off x="3522960" y="239616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20519"/>
            <p:cNvSpPr/>
            <p:nvPr/>
          </p:nvSpPr>
          <p:spPr>
            <a:xfrm>
              <a:off x="1076040" y="2812320"/>
              <a:ext cx="1384200" cy="1384920"/>
            </a:xfrm>
            <a:prstGeom prst="donut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20520"/>
            <p:cNvSpPr/>
            <p:nvPr/>
          </p:nvSpPr>
          <p:spPr>
            <a:xfrm>
              <a:off x="3522960" y="202644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Medizin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20521"/>
            <p:cNvSpPr/>
            <p:nvPr/>
          </p:nvSpPr>
          <p:spPr>
            <a:xfrm>
              <a:off x="1422720" y="3159360"/>
              <a:ext cx="691920" cy="69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20522"/>
            <p:cNvSpPr/>
            <p:nvPr/>
          </p:nvSpPr>
          <p:spPr>
            <a:xfrm>
              <a:off x="3522960" y="16570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50920" y="119700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 Spezialit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6240" y="2852640"/>
            <a:ext cx="448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genständige Diszipl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0" y="907920"/>
            <a:ext cx="8675640" cy="554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&amp; 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si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nsch: Bilder und Begrif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uter: Zuständen „Ein“ und „Aus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n Prozess der Rückgewinnung von Daten in „verständliche“ Information nennt ma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bstrak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können gespeichert werden (Mensch und Computer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5272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 sind verschlüsselte Information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als Signal abgebildet (=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präsent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kopier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shalb leicht zu sich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auswert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korrig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ung von Redundanzen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en Rechner zur Nutz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leichter manipulierbar (im negativen Sin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9800" y="3284640"/>
            <a:ext cx="151308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92760" y="3284640"/>
            <a:ext cx="151272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7" idx="0"/>
            <a:endCxn id="128" idx="0"/>
          </p:cNvCxnSpPr>
          <p:nvPr/>
        </p:nvCxnSpPr>
        <p:spPr>
          <a:xfrm flipH="1" rot="16200000">
            <a:off x="4607640" y="2232720"/>
            <a:ext cx="2160" cy="2083320"/>
          </a:xfrm>
          <a:prstGeom prst="bentConnector3">
            <a:avLst>
              <a:gd name="adj1" fmla="val -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0" name=""/>
          <p:cNvCxnSpPr>
            <a:stCxn id="128" idx="2"/>
            <a:endCxn id="127" idx="2"/>
          </p:cNvCxnSpPr>
          <p:nvPr/>
        </p:nvCxnSpPr>
        <p:spPr>
          <a:xfrm rot="5400000">
            <a:off x="4606920" y="2643840"/>
            <a:ext cx="2160" cy="2083320"/>
          </a:xfrm>
          <a:prstGeom prst="bentConnector3">
            <a:avLst>
              <a:gd name="adj1" fmla="val 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3635280" y="266076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prä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394344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k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Mensc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2360" y="1125360"/>
            <a:ext cx="2116440" cy="1833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51280" y="3716280"/>
            <a:ext cx="1079640" cy="90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236000" y="4076640"/>
            <a:ext cx="1079280" cy="635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062760" y="3141720"/>
            <a:ext cx="957240" cy="107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227640" y="4724280"/>
            <a:ext cx="1079640" cy="63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Zum Downloaden klicken"/>
          <p:cNvPicPr/>
          <p:nvPr/>
        </p:nvPicPr>
        <p:blipFill>
          <a:blip r:embed="rId6"/>
          <a:stretch/>
        </p:blipFill>
        <p:spPr>
          <a:xfrm>
            <a:off x="468360" y="31449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Zum Downloaden klicken"/>
          <p:cNvPicPr/>
          <p:nvPr/>
        </p:nvPicPr>
        <p:blipFill>
          <a:blip r:embed="rId7"/>
          <a:stretch/>
        </p:blipFill>
        <p:spPr>
          <a:xfrm>
            <a:off x="1260360" y="42260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Zum Downloaden klicken"/>
          <p:cNvPicPr/>
          <p:nvPr/>
        </p:nvPicPr>
        <p:blipFill>
          <a:blip r:embed="rId8"/>
          <a:stretch/>
        </p:blipFill>
        <p:spPr>
          <a:xfrm>
            <a:off x="1692360" y="307332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fnah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1120" y="29908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-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Compu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419640" y="1200240"/>
            <a:ext cx="1793880" cy="150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63720" y="5033880"/>
            <a:ext cx="1496880" cy="439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547640" y="2793960"/>
            <a:ext cx="1079640" cy="1211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164360" y="2924280"/>
            <a:ext cx="1079640" cy="1269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659640" y="4508640"/>
            <a:ext cx="1079280" cy="984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68360" y="3933720"/>
            <a:ext cx="1079280" cy="100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539640" y="3132000"/>
            <a:ext cx="1079640" cy="728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5867280" y="3500280"/>
            <a:ext cx="1079640" cy="789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052720" y="3884760"/>
            <a:ext cx="1079280" cy="1056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Zum Downloaden klicken"/>
          <p:cNvPicPr/>
          <p:nvPr/>
        </p:nvPicPr>
        <p:blipFill>
          <a:blip r:embed="rId10"/>
          <a:stretch/>
        </p:blipFill>
        <p:spPr>
          <a:xfrm>
            <a:off x="3708360" y="37004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21120" y="29908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e für die Pfle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recht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mensch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chätzen der Kosten bzw. Kostenverhältniss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Wie viel kostet welche Lösung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en in der Prax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Leistungsfähigkeit von IT-System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EDV-Kenntnisse der Mitarbei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Planungs- und Umsetzungsaufwandes bei der Einführung neuer Syste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Wartungsaufwan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r Datensicherung und der Daten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heut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ie Rechenleis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6 % der Bevölkerung (14 – 64 Jahre) besitzen einen PC im Hausha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st alle klein und mittelständischen Betriebe nutzen mindestens einen P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. 80 % dieser Betriebe betreiben ein eigenständige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percomputer NEC Earth-Simulator (5120 Prozessoren)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top500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as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napp 50 % der Bevölkerung nutzt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0 % der Betriebe nutzen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 60 % nutzen E-Mail als Kommunikationsmed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95 % der Betriebe setzen Standard-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kaufmännische 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Datenbanken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297160" y="1238400"/>
            <a:ext cx="4478400" cy="4316400"/>
            <a:chOff x="2297160" y="1238400"/>
            <a:chExt cx="4478400" cy="4316400"/>
          </a:xfrm>
        </p:grpSpPr>
        <p:sp>
          <p:nvSpPr>
            <p:cNvPr id="57" name="_s45074"/>
            <p:cNvSpPr/>
            <p:nvPr/>
          </p:nvSpPr>
          <p:spPr>
            <a:xfrm flipH="1" flipV="1">
              <a:off x="3430080" y="3203640"/>
              <a:ext cx="5526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_s45073"/>
            <p:cNvSpPr/>
            <p:nvPr/>
          </p:nvSpPr>
          <p:spPr>
            <a:xfrm>
              <a:off x="229716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ble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im Betri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45072"/>
            <p:cNvSpPr/>
            <p:nvPr/>
          </p:nvSpPr>
          <p:spPr>
            <a:xfrm flipH="1">
              <a:off x="3852720" y="4032360"/>
              <a:ext cx="34128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45071"/>
            <p:cNvSpPr/>
            <p:nvPr/>
          </p:nvSpPr>
          <p:spPr>
            <a:xfrm>
              <a:off x="293040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Daten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Inform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45070"/>
            <p:cNvSpPr/>
            <p:nvPr/>
          </p:nvSpPr>
          <p:spPr>
            <a:xfrm>
              <a:off x="4876920" y="4032360"/>
              <a:ext cx="34272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45069"/>
            <p:cNvSpPr/>
            <p:nvPr/>
          </p:nvSpPr>
          <p:spPr>
            <a:xfrm>
              <a:off x="497988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gram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45068"/>
            <p:cNvSpPr/>
            <p:nvPr/>
          </p:nvSpPr>
          <p:spPr>
            <a:xfrm flipV="1">
              <a:off x="5087880" y="3203640"/>
              <a:ext cx="55404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45067"/>
            <p:cNvSpPr/>
            <p:nvPr/>
          </p:nvSpPr>
          <p:spPr>
            <a:xfrm>
              <a:off x="561348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aschin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_s45066"/>
            <p:cNvSpPr/>
            <p:nvPr/>
          </p:nvSpPr>
          <p:spPr>
            <a:xfrm flipV="1">
              <a:off x="4535640" y="2400480"/>
              <a:ext cx="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45065"/>
            <p:cNvSpPr/>
            <p:nvPr/>
          </p:nvSpPr>
          <p:spPr>
            <a:xfrm>
              <a:off x="3954600" y="123840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ens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_s45064"/>
            <p:cNvSpPr/>
            <p:nvPr/>
          </p:nvSpPr>
          <p:spPr>
            <a:xfrm>
              <a:off x="3954600" y="2982960"/>
              <a:ext cx="1162080" cy="11620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 (Kerninformati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70" name="_s8205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_s8200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_s8206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_s8202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8207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8204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8208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8209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heore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g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gorit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bau von Programmierspra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en der Berechenbar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heoretische I. vermittelt Grundlagen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hiert Probleme, unabhängig von den technischen Gegebenh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die Mathematik zur Problembeschreib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reibt auch Probleme, die nicht mit dem Computer zu lös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wenig „An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keine „Aus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Rechnern, Speichern und Prozesso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Peripheriegeräten (Bildschirm, Drucker, Scan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echnische I. ist allgemein für die Hardware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rücksichtigt aber auch die Möglichkeiten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t an die Elektrotechn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k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ologie der Programm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u von Compilern (Übersetzen von Programmcode in Maschinenspra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Betriebs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raktische I. orientiert sich an der zur Verfügung stehenden Hard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mit ihren Inhalten die Brücke zwischen Hard- und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gewandt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Software für einzelne Aufgabenstell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urf von Konzepten zur Planung und Umse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gewandte I. baut auf den Erkenntnissen (mathematische Grundlagen) und Produkten (Hardware und Compiler) der anderen Bereiche au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die Schnittstelle zum End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88" name="_s24581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24582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Grundlage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_s24583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_s24584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_s24585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_s24586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Compiler, Betriebssystem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_s24587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24588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4:31:43Z</dcterms:modified>
  <cp:revision>50</cp:revision>
  <dc:subject/>
  <dc:title>PowerPoint Presentation</dc:title>
</cp:coreProperties>
</file>