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Einführung in Datenbank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1798-BB5C-40DB-AD99-08082DF44309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: (Daten)Datei versus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aten)Datei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aten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Die Sprache d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(Programmier)Sprache SQL (Standard Query Language) wird benötigt, um Zustandsänderungen in einem DBS vor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ist eine Zusammenstellung mehrerer Sprachen mit unterschiedlichen Aufgaben. Die wichtigsten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7082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DL (Data Defini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x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ML (Data Manipula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hinzufüg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QL (Data Query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filtern (auswäh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Codebeispi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stehend ein Beispielcode in SQ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rklä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alle Felder aus (Sternchen steht für alle Feld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in der Tabelle mit der Bezeichnung “patienten”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jedoch nur diejenigen Datensätze aus, in deren Feld “nachname” der Inhalt “Schmidt” ste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ner Daten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urfspha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der Anforderung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des benötigten Datenbestands, der benötigten Genauigkeit, allen Ein- und Ausgabefunktionen etc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Entwurf des Datenbankkonzepts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semantisches Datenmodell (z.B. ER-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Log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logisches Datenmodell (z.B. relationales Daten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setzung des logischen Datenmodells im verwendeten DBS (z.B. Accss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und ggf. Erweiter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atest des DBS mit eventl. Nachbesser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ungsarbeiten im laufenden Betrieb (Datensicherung, DB-War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2) Semant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-Relationship-Mod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 (Chen) – au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-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äter Extended-Entity-Relationship-Modell (Fry, Teorey,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8: SDM (McLe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RM/T (Co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DAPLEX (Ship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0: TAXIS (Bernstein, Mylopoulos, Berns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IFO (Abiteboul, H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sche Datenmodelle versuchen möglichst wirklichkeitsgetreu die Realität in einem Schema abzubilden. Sie nutzen dazu die natürlichen Begriffsstrukturen und bilden diese mit Hilfe von definierten Symbolen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meist genutzte semantische Datenmodell ist nach wie vor das ER-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1920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41920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34792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5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635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860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ür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429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2852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852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227240"/>
            <a:ext cx="10749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3" y="82765"/>
                </a:moveTo>
                <a:lnTo>
                  <a:pt x="-1531" y="7477"/>
                </a:lnTo>
              </a:path>
              <a:path w="21600" h="21600">
                <a:moveTo>
                  <a:pt x="-1531" y="0"/>
                </a:moveTo>
                <a:lnTo>
                  <a:pt x="-153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Entity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581360"/>
            <a:ext cx="9320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0" y="-65527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268280"/>
            <a:ext cx="12254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74" y="78092"/>
                </a:moveTo>
                <a:lnTo>
                  <a:pt x="-1343" y="7477"/>
                </a:lnTo>
              </a:path>
              <a:path w="21600" h="21600">
                <a:moveTo>
                  <a:pt x="-1343" y="0"/>
                </a:moveTo>
                <a:lnTo>
                  <a:pt x="-1343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s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149720"/>
            <a:ext cx="9320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23" y="-86400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5280" y="1413000"/>
            <a:ext cx="1871640" cy="1079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R-Modell beschreibt Objekte, indem es unterteilt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in Entitytyp beschreibt eine Gruppe von gleichartigen Objekten (z.B. die Mitarbeiter, die Pati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Objekt eines Entitytyps (z.B. den Mitarbeiter Herrn Mü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ein oder mehrere Eigenschaften besitzen (Bsp. Mitarbeiter: Nachname, Vorname, Geburtsdatum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Attribut (z.B. den Nachnamen „Müller“, „Schmitt“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mit anderen Entity(typen) in Bezieh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wie zwei Entitytypen miteinander in Verbindung stehen (z.B. Di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St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s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nach welchen Regeln dies erfolgen darf (z.B. Die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von 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eitet wer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Und jed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 nur e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styp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prich: eins zu eins)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steht einmal in Beziehung zu einem Objekt d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tä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kan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Entiät A könne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kursive Bezieh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önnen zu ein oder mehreren Objekte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8428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3700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78936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637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dik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48428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71628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re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413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252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0860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728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2520" y="372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94172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4172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51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48816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2520" y="48783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3) Log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Zeit ist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ale Datenmode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s am häufigsten genutzte Daten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Model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archisch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jektorientiert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duktiv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Ergebnisse des ER-Modells in ein Schema, das dem Aufbau der verwendeten Datenbank entspr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zuerst muss das später verwendete Datenbanksystem ausgewählt werden. Daraus ergibt sich dann das verwendete logische Datenmode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1484280"/>
            <a:ext cx="24498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484280"/>
            <a:ext cx="23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7813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7813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p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elationalen Datenmodell werden die im ER-Modell als „Entity“ bezeichneten Elemente mit dem Begrif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up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ri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der Datenbank stellt ein Tupel einen vollständig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r, d.h. ein Entity mit all seinen Attributwe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üss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lationen des ER-Modells werden im relationalen Datenmodell präzisiert. Um ein Objekt mit einem anderen Objekt in Beziehung zu setzen, wird ein eindeutiger Wert benötigt. Diesen Wert bezeichnet man auch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lüss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mär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Ausgangstabelle nur einmal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verbundenen Tabelle je nach Relationstyp ein oder mehrfach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Schlüs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4680" y="338616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74" y="96992"/>
                </a:moveTo>
                <a:lnTo>
                  <a:pt x="-1091" y="7477"/>
                </a:lnTo>
              </a:path>
              <a:path w="21600" h="21600">
                <a:moveTo>
                  <a:pt x="-1091" y="0"/>
                </a:moveTo>
                <a:lnTo>
                  <a:pt x="-10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Fremd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960" y="191628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1" y="9554"/>
                </a:moveTo>
                <a:lnTo>
                  <a:pt x="22691" y="7477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Normalisierung bezeichnet man den Prozess Informationen so weit zu atomarisieren, so dass jede Einzelinformation ein eigenes Speicherfeld er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legen mehrere Werte ein Speicherfeld, so wird dieses Speicherfeld in eine neue Tabelle aufgeteilt, die mit der Ausgangstabelle verknüpft wird (sprich: es wird eine neue Relation erstell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ung von Redundanz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scheidet in der Praxis 3 Stufen der Normalis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: Grundlagen ein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 Sie eine Datenbank mit deren Hilfe Sie Ihren Patientenstamm und deren Medikation verwal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te brücksichtigen Sie, das jeder Patient mehrere Medikamente erhalt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imal müssen folgende Datenfelder vorhand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name, Vorname, Straße, Postleitzahl, Ort, Diagnose, Medikament, Do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824360" cy="220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557360"/>
            <a:ext cx="10810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23493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 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n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es Problem: Der Auftraggeber (die Pflegekraft) muss dem Auftragnehmer (der Programmierer) verständlich machen, welche Aufgaben mit welcher Genauigkeit von der Datenbank erfüllt werden so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augenmerk sollte dabei auf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ünschten Exakt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ährend der Planung li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 bei Nichtbeachtung: Nachträgliche Korrekturen gehen in den meisten Fällen mit einem großen Zeit- und Kostenaufwand ein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zu müssen folgende Punkte abgeklär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n sollen im Einzelnen verwalte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Filter- und Such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Eingabe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Ausgabe- und Export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und wie viele Software-Lizenzen werden zur Umsetzung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elemente sollten bekannt sein, da diese in allen Datenbanken sehr ähnlich sind. Dazu gehö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mente der Navigation (nächster/letzter Datensatz, vorheriger/erster Datensatz, neuen Datensatz anle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unktionen (einfache Suche mit Suchfenster, Datenfilt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export in andere Anwendungen (z.B. Word, um dort einen Serienbrief zu er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banken werden durch die Führungskraft selbst entwor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ünde hierfür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wendiges KnowHow ist bereits vorh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nde finanzielle Ressourcen zur Beauftragung eines Software-Unternehmens mit der Programm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 zu erstellen. (Keine Planung erforderli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zu erstellen. (Kein besonderes Wissen erforderlich, außer Programmbedienung. D.h., der Mitarbeiter hat die Bedienung in der Han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liebige Programm verwendbar (freie Auswahl beim Er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sind an die Software gebunden, mit denen sie erstell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ung von Daten in Datendateien geht mit redundanten Daten einher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ndanz = Gleiche Informationen werden an unterschiedlichen stellen mehrfach gespeicher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 1 (I1) und Information 2 (I2) beinhalten beide die gleiche Anschrift. Diese wird jedoch zwei Mal in unterschiedlichen Dateien gespeichert, so dass in I2 ein Eingabefehler im Nachnamen die Folge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durch sehr aufwendige Datenpflege mit hoher Fehlerwahrschein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können schlecht ausgewe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79640" y="2205000"/>
            <a:ext cx="151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205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27664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771560"/>
            <a:ext cx="1871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ndante Daten können ausgeschlossen werden, da die Information 1 (I1) nur einmal in der Datenbank gespeicher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anderen Programmen benutzt werden (z.B. Ausgabe eines Serienbriefs in Wo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mehreren Mitarbeitern gleichzeitig benutz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oberfläche ist nicht von einer Anwendung (Textverarbeitung etc.) abhängig. Folge: Nur eine Eingabeoberfläche für alle Anwend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 i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maliger Verwend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hr zeitaufw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Anschaffung, Wartung und Anpassungen an neue Auf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altung der Datenbank erfordert i.d.R. einen Programmie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fehler werden an alle Anwendungen weiter gege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gem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einer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nbank 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Datenbankverwaltung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MS = Database Management Syst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llt alle strukturellen Bestandteile zur Datenorganisation bereit. Z.B. Benutzerrechte, Sprache zur Datenmanipulation, Speichervorgän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einander verknüpften Dateien (Tabellen), in denen die Daten enthalt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 = Datenba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Hersteller, werden diese Dateien (Tabellen) innerhalb des DBMS, oder extern in real existierenden Einzeldateien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anksystem (DB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 man die Einheit von DBMS und 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S = DBMS +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 (eigentliche D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 (Benutzeroberflä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 zur Datenausgabe (z.B. Word, Excel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Datenspe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grundsätzlich der Dateneingabe, -änderung und dem Löschen vo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Datenbanksysteme ermöglichen im Frontend auch die Datenausgabe in Form von druckbaren Berich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ung von Befeh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Datenmanipulation (siehe auch DML), nicht jedoch deren Ausführung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tellung individueller Funktionen (z.B. Weitergabe der Daten an die Textverarbeitung; Datensicherung in ein anderes Dateiformat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 (Beispi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152720" cy="129528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26828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net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781360"/>
            <a:ext cx="1944720" cy="1008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gri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bankform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22100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dividua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79640" y="1773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197000"/>
            <a:ext cx="1944720" cy="86364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xt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781360"/>
            <a:ext cx="1944720" cy="86364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agra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221000"/>
            <a:ext cx="1944720" cy="86364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dere 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628640"/>
            <a:ext cx="1079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1079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pe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7340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Heil</dc:creator>
  <dc:description/>
  <dc:language>en-US</dc:language>
  <cp:lastModifiedBy>Andreas Heil</cp:lastModifiedBy>
  <dcterms:modified xsi:type="dcterms:W3CDTF">2003-02-02T23:33:34Z</dcterms:modified>
  <cp:revision>110</cp:revision>
  <dc:subject/>
  <dc:title>Einführung in Datenbanksysteme</dc:title>
</cp:coreProperties>
</file>