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Hardware I: Der Zugang zum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D495-4527-44F9-AF63-06330381A634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elekom.de/" TargetMode="External"/><Relationship Id="rId2" Type="http://schemas.openxmlformats.org/officeDocument/2006/relationships/hyperlink" Target="http://www.t-online.de/" TargetMode="External"/><Relationship Id="rId3" Type="http://schemas.openxmlformats.org/officeDocument/2006/relationships/hyperlink" Target="http://www.dtag.d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reenet.de/hilfe/einwahl/win9x/dfue_netzwerk/index.html" TargetMode="External"/><Relationship Id="rId2" Type="http://schemas.openxmlformats.org/officeDocument/2006/relationships/hyperlink" Target="http://www.freenet.de/hilfe/einwahl/win9x/verbindung/index.html" TargetMode="External"/><Relationship Id="rId3" Type="http://schemas.openxmlformats.org/officeDocument/2006/relationships/hyperlink" Target="http://www.freenet.de/hilfe/einwahl/win9x/verbindung/index.html" TargetMode="External"/><Relationship Id="rId4" Type="http://schemas.openxmlformats.org/officeDocument/2006/relationships/hyperlink" Target="http://www.freenet.de/hilfe/einwahl/win9x/verbindung/index.html" TargetMode="External"/><Relationship Id="rId5" Type="http://schemas.openxmlformats.org/officeDocument/2006/relationships/hyperlink" Target="http://www.freenet.de/hilfe/einwahl/win9x/verbindung/index.html" TargetMode="External"/><Relationship Id="rId6" Type="http://schemas.openxmlformats.org/officeDocument/2006/relationships/hyperlink" Target="http://www.freenet.de/hilfe/einwahl/win9x/verbindung/index.html" TargetMode="External"/><Relationship Id="rId7" Type="http://schemas.openxmlformats.org/officeDocument/2006/relationships/hyperlink" Target="http://www.freenet.de/hilfe/einwahl/win9x/verbindung/index.html" TargetMode="External"/><Relationship Id="rId8" Type="http://schemas.openxmlformats.org/officeDocument/2006/relationships/hyperlink" Target="http://www.freenet.de/hilfe/einwahl/win9x/verbindung/index.html" TargetMode="External"/><Relationship Id="rId9" Type="http://schemas.openxmlformats.org/officeDocument/2006/relationships/hyperlink" Target="http://www.freenet.de/hilfe/einwahl/win9x/verbindung/index.html" TargetMode="External"/><Relationship Id="rId10" Type="http://schemas.openxmlformats.org/officeDocument/2006/relationships/hyperlink" Target="http://www.freenet.de/hilfe/einwahl/win9x/verbindung/index.html" TargetMode="External"/><Relationship Id="rId11" Type="http://schemas.openxmlformats.org/officeDocument/2006/relationships/hyperlink" Target="http://www.freenet.de/hilfe/einwahl/win9x/verbindung/index.html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Voraussetzung „Provider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llgemein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vider = Dienstleister, der Ihnen den Zugang zum Internet benöti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neben benötigen Sie noch einen Anbieter, der Ihnen die dafür notwendige Telefonleitung zur Verfügung stel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kann möglich sein, das Ihr Telefonanbieter auch gleichzeitig Ihr Provider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bieter Telefonanschlus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Telekom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telekom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, BerliKom, Arcor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zu telefoni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Ihren Internet-Provider zu erreic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bieter Intern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T-Online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t-online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dtag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, Freenet, AOL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eine Verbindung zum Internet herzuste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wählen sich dazu in den Hauptrechner Ihres Anbieters ein. Von dort aus erfolgt dann die Verbindung zum Inter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erhalten von Ihrem Anbieter 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gangsda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, die Sie zur Konfiguration der DFÜ-Software benötig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Kostenbeispiele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all-by-Cal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sart beachten! (Sekundengenau, pro Minute, pro 3 Minu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 oder ohne Anmeldu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lls Anmeldung notwendi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eine Grundgebühr erhob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wird ein Mindestumsatz gefordert (pro Monat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den Freiminuten angeboten, wenn eine Grundgebühr bezahlt wir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lls ohne Anmeld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eine zusätzliche Einwahlgebühr erhob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cor by call ohne Anmeld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Anmel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Grundgebü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 Cent Einwahlgebühr (d.h. bei jeder Neueinwahl ins Intern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Cent pro Minute (bei 1-Minuten-Tak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Kostenbeispiel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SL-Flatr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eitlich unbeschränkte Einwahl ins Internet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 Eventl. Volumenbegrenzu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meldung immer erforder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fla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Volumenbeschränk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9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Benut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50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5000 MB Daten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Benutzer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10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1000 MB Daten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9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Benutzer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sätzliche Kost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gebühr für DSL-Zugang = 9,99 Euro (ISDN XXL) bis 19,99 Euro (T-Net) Anschlussgebühren für den Telefon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malige Anschlussgebühr für DSL-Zug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Hardware-Voraussetz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02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Analo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Analog oder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Modem“ (Download &amp; Upload: 56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oges Mod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per ISD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ISDN-Karte“ (Download &amp; Upload: 64 bzw. 128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TBA (Signalumwandlung Telefonleitung &lt;-&gt; Endgerä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DN-Karte (Signalumwandlung Computer &lt;-&gt; Telefon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per DS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Analog oder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DSL-Modem“ (Download: 768 kbit/s, Upload: 128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ISDN-Anschluss: NT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litter (Trennung Telefonsignal und DSL-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SL-Modem (Signalumwandlung Computer &lt;-&gt; Telefon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zwerkkarte (Anschluss an den Rech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Voraussetzung „Software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rätetreib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dem Computer die Kommunikation mit dem Endgerät (z.B. Modem, ISDN-Karte, DSL-Mod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FÜ-Soft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die Nutzung des Gerätetreiber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für das Mod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der ersten Konfiguration benötigen Si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hre persönlich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gangsda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nummer des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ventl. Zusatzdaten (meist nicht notwendig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-Adresse des Zielrech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-Adresse des DNS-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lfeseiten Freenet für Windows 95/98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FÜ installieren:</a:t>
            </a:r>
            <a:br>
              <a:rPr sz="14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freenet.de/hilfe/einwahl/win9x/dfue_netzwerk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einer DFÜ-Verbindung:</a:t>
            </a:r>
            <a:br>
              <a:rPr sz="14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freenet.d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ilf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einwahl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/win9x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verbindung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2"/>
          <a:stretch/>
        </p:blipFill>
        <p:spPr>
          <a:xfrm>
            <a:off x="5435640" y="1773360"/>
            <a:ext cx="2951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Ablauf der Einrich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ndbuch zur Installation der Hardware und des Providers lesen!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f- bzw. Einbau der 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kabelung (Stecker müssen einrasten bzw. verschraubt werde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allation der Software (Achtung: Teilweise muss erst die Software installiert werden und erst danach die Hardware in den Rechner eingebaut werde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FÜ-Netzwerk konfigurier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owser konfigurieren (z.B. Internet-Explorer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-Mail-Programm konfigurieren mit folgenden Angab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-Mail-Adre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teingangs-Server (P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tausgangs-Server (SM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IS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329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DS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197000"/>
            <a:ext cx="75582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Kombikarte DSL &amp; IS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705800" cy="4726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651640" y="981000"/>
            <a:ext cx="2592360" cy="2592360"/>
          </a:xfrm>
          <a:prstGeom prst="ellipse">
            <a:avLst/>
          </a:prstGeom>
          <a:solidFill>
            <a:srgbClr val="ffffff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2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bikart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DSL-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Netzwerk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ISDN-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40000" y="3141720"/>
            <a:ext cx="8636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867280" y="4941720"/>
            <a:ext cx="208944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7T17:01:49Z</dcterms:modified>
  <cp:revision>128</cp:revision>
  <dc:subject/>
  <dc:title>PowerPoint Presentation</dc:title>
</cp:coreProperties>
</file>