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6. Rechtliche Grundla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2E97-02E0-4471-915B-323120351D1D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7:35:36Z</dcterms:modified>
  <cp:revision>68</cp:revision>
  <dc:subject/>
  <dc:title>PowerPoint Presentation</dc:title>
</cp:coreProperties>
</file>