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12500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19880"/>
            <a:ext cx="25023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7564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1988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25000"/>
            <a:ext cx="37926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19880"/>
            <a:ext cx="777240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16200000">
            <a:off x="4211640" y="2240640"/>
            <a:ext cx="468000" cy="889308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84000" y="6501960"/>
            <a:ext cx="48956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8. Einführung in Datenbanksyst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35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888400" y="333360"/>
            <a:ext cx="255600" cy="6524640"/>
          </a:xfrm>
          <a:prstGeom prst="rect">
            <a:avLst/>
          </a:prstGeom>
          <a:solidFill>
            <a:srgbClr val="000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32880" y="347760"/>
            <a:ext cx="158760" cy="6524640"/>
          </a:xfrm>
          <a:prstGeom prst="rect">
            <a:avLst/>
          </a:prstGeom>
          <a:solidFill>
            <a:srgbClr val="fff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90040" y="254160"/>
            <a:ext cx="50760" cy="618948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0"/>
            <a:ext cx="50760" cy="68850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558720" y="6443640"/>
            <a:ext cx="1116000" cy="412920"/>
          </a:xfrm>
          <a:prstGeom prst="ellipse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" y="652464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4FB9-C46E-4569-B9DE-547C2FAE9614}" type="slidenum">
              <a:rPr b="1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4341600" y="2064960"/>
            <a:ext cx="50760" cy="873432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4317840" y="-4388040"/>
            <a:ext cx="71640" cy="8780400"/>
          </a:xfrm>
          <a:prstGeom prst="rect">
            <a:avLst/>
          </a:prstGeom>
          <a:solidFill>
            <a:srgbClr val="d00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59600" y="6458040"/>
            <a:ext cx="266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Hei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vangelische Fachhochschule Ber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16200000">
            <a:off x="4347360" y="-3439440"/>
            <a:ext cx="17640" cy="8712360"/>
          </a:xfrm>
          <a:prstGeom prst="rect">
            <a:avLst/>
          </a:prstGeom>
          <a:gradFill rotWithShape="0">
            <a:gsLst>
              <a:gs pos="0">
                <a:srgbClr val="d00f04"/>
              </a:gs>
              <a:gs pos="50000">
                <a:srgbClr val="ffffff"/>
              </a:gs>
              <a:gs pos="100000">
                <a:srgbClr val="d00f0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: (Daten)Datei versus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 gi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Daten)Datei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 Datenban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rganisier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Die Sprache d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(Programmier)Sprache SQL (Standard Query Language) wird benötigt, um Zustandsänderungen in einem DBS vor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QL ist eine Zusammenstellung mehrerer Sprachen mit unterschiedlichen Aufgaben. Die wichtigsten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708280"/>
            <a:ext cx="77724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DL (Data Defini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ell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en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ex erstell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ML (Data Manipulation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hinzufügen, ändern,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QL (Data Query Langu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filtern (auswähl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QL – Codebeispi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stehend ein Beispielcode in SQ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Erklär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ELEC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alle Felder aus (Sternchen steht für alle Feld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ROM pati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in der Tabelle mit der Bezeichnung “patienten”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HERE nachname = “Schmidt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ähle jedoch nur diejenigen Datensätze aus, in deren Feld “nachname” der Inhalt “Schmidt” ste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ntwur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iner Daten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urfspha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alyse der Anforderunge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e des benötigten Datenbestands, der benötigten Genauigkeit, allen Ein- und Ausgabefunktionen etc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Entwurf des Datenbankkonzepts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semantisches Datenmodell (z.B. ER-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Log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chreibung durch logisches Datenmodell (z.B. relationales Datenmodell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hysischer Entwurf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setzung des logischen Datenmodells im verwendeten DBS (z.B. Accss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 und ggf. Erweiter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atest des DBS mit eventl. Nachbesserung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rt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artungsarbeiten im laufenden Betrieb (Datensicherung, DB-Wartu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2) Semant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6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-Relationship-Mod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 (Chen) – auch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-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äter Extended-Entity-Relationship-Modell (Fry, Teorey, Ya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8: SDM (McLe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RM/T (Cod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79: DAPLEX (Ship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0: TAXIS (Bernstein, Mylopoulos, Bernste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984: IFO (Abiteboul, H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mantische Datenmodelle versuchen möglichst wirklichkeitsgetreu die Realität in einem Schema abzubilden. Sie nutzen dazu die natürlichen Begriffsstrukturen und bilden diese mit Hilfe von definierten Symbolen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meist genutzte semantische Datenmodell ist nach wie vor das ER-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241920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241920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234792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6352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26352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2252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08600" y="2347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272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93080" y="3141720"/>
            <a:ext cx="9349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ürz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20720" y="3141720"/>
            <a:ext cx="935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0429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516720" y="2852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285264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285264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4320" y="1227240"/>
            <a:ext cx="107496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113" y="82765"/>
                </a:moveTo>
                <a:lnTo>
                  <a:pt x="-1531" y="7477"/>
                </a:lnTo>
              </a:path>
              <a:path w="21600" h="21600">
                <a:moveTo>
                  <a:pt x="-1531" y="0"/>
                </a:moveTo>
                <a:lnTo>
                  <a:pt x="-153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Entity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4581360"/>
            <a:ext cx="9320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0" y="-65527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Attri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1268280"/>
            <a:ext cx="122544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174" y="78092"/>
                </a:moveTo>
                <a:lnTo>
                  <a:pt x="-1343" y="7477"/>
                </a:lnTo>
              </a:path>
              <a:path w="21600" h="21600">
                <a:moveTo>
                  <a:pt x="-1343" y="0"/>
                </a:moveTo>
                <a:lnTo>
                  <a:pt x="-1343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sty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16360" y="4149720"/>
            <a:ext cx="9320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23" y="-86400"/>
                </a:moveTo>
                <a:lnTo>
                  <a:pt x="-1766" y="7477"/>
                </a:lnTo>
              </a:path>
              <a:path w="21600" h="21600">
                <a:moveTo>
                  <a:pt x="-1766" y="0"/>
                </a:moveTo>
                <a:lnTo>
                  <a:pt x="-1766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995280" y="1413000"/>
            <a:ext cx="1871640" cy="10792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ER-Modell beschreibt Objekte, indem es unterteilt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Ein Entitytyp beschreibt eine Gruppe von gleichartigen Objekten (z.B. die Mitarbeiter, die Patien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Objekt eines Entitytyps (z.B. den Mitarbeiter Herrn Mü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ein oder mehrere Eigenschaften besitzen (Bsp. Mitarbeiter: Nachname, Vorname, Geburtsdatum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ributwe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Meint ein einzelnes Attribut (z.B. den Nachnamen „Müller“, „Schmitt“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Jedes Entity kann mit anderen Entity(typen) in Beziehung ste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gemei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wie zwei Entitytypen miteinander in Verbindung stehen (z.B. Di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ie Statio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sty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äftigt sich mit der Frage, nach welchen Regeln dies erfolgen darf (z.B. Die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r von ein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eitet werd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 Und jede Stationsleitu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f nur ein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tatio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t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ziehungstyp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sprich: eins zu eins)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steht einmal in Beziehung zu einem Objekt d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ität 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bjekt der Entität A kan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:n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Entiät A können zu ein oder mehreren Objekten der Entität B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kursive Beziehung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oder mehrere Objekte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können zu ein oder mehreren Objekten de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ität 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in Beziehung steh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-Modell: Relationsty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48428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sl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78936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2637000"/>
            <a:ext cx="180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378936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flegek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637000"/>
            <a:ext cx="1800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edika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148428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71628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tre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2565360"/>
            <a:ext cx="1727280" cy="5763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rhä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1413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17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7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19640" y="2852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2252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08600" y="1413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37288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22520" y="3726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2252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4941720"/>
            <a:ext cx="1800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94172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4869000"/>
            <a:ext cx="1727280" cy="5760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e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19640" y="5157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48816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22520" y="4878360"/>
            <a:ext cx="12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: rekurs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3) Logische Datenmod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r Zeit ist da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lationale Datenmodel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s am häufigsten genutzte Datenmod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Modelle si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archisch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zwerk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bjektorientiert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duktives Datenmod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setzung der Ergebnisse des ER-Modells in ein Schema, das dem Aufbau der verwendeten Datenbank entspric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.h. zuerst muss das später verwendete Datenbanksystem ausgewählt werden. Daraus ergibt sich dann das verwendete logische Datenmodell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1484280"/>
            <a:ext cx="24498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484280"/>
            <a:ext cx="2376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781360"/>
            <a:ext cx="50508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78136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Erläut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up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elationalen Datenmodell werden die im ER-Modell als „Entity“ bezeichneten Elemente mit dem Begriff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up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schrie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nerhalb der Datenbank stellt ein Tupel einen vollständig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sat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dar, d.h. ein Entity mit all seinen Attributwer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lüss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Relationen des ER-Modells werden im relationalen Datenmodell präzisiert. Um ein Objekt mit einem anderen Objekt in Beziehung zu setzen, wird ein eindeutiger Wert benötigt. Diesen Wert bezeichnet man auch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lüss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imär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Ausgangstabelle nur einmal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mdschlüss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 Wert, der in der verbundenen Tabelle je nach Relationstyp ein oder mehrfach vorkommen dar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relationale Datenmodell: Schlüss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24000" y="1268280"/>
          <a:ext cx="3814920" cy="136692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258920" y="4221000"/>
          <a:ext cx="4176360" cy="1235160"/>
        </p:xfrm>
        <a:graphic>
          <a:graphicData uri="http://schemas.openxmlformats.org/drawingml/2006/table">
            <a:tbl>
              <a:tblPr/>
              <a:tblGrid>
                <a:gridCol w="1044000"/>
                <a:gridCol w="1044000"/>
                <a:gridCol w="1044360"/>
                <a:gridCol w="1044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d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.N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,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809800" y="1844640"/>
            <a:ext cx="18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32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84680" y="338616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174" y="96992"/>
                </a:moveTo>
                <a:lnTo>
                  <a:pt x="-1091" y="7477"/>
                </a:lnTo>
              </a:path>
              <a:path w="21600" h="21600">
                <a:moveTo>
                  <a:pt x="-1091" y="0"/>
                </a:moveTo>
                <a:lnTo>
                  <a:pt x="-10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Fremd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8960" y="1916280"/>
            <a:ext cx="1508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331" y="9554"/>
                </a:moveTo>
                <a:lnTo>
                  <a:pt x="22691" y="7477"/>
                </a:lnTo>
              </a:path>
              <a:path w="21600" h="21600">
                <a:moveTo>
                  <a:pt x="22691" y="0"/>
                </a:moveTo>
                <a:lnTo>
                  <a:pt x="22691" y="21600"/>
                </a:ln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Times New Roman"/>
              </a:rPr>
              <a:t>Primärschlüs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rmal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Normalisierung bezeichnet man den Prozess Informationen so weit zu atomarisieren, so dass jede Einzelinformation ein eigenes Speicherfeld erhä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legen mehrere Werte ein Speicherfeld, so wird dieses Speicherfeld in eine neue Tabelle aufgeteilt, die mit der Ausgangstabelle verknüpft wird (sprich: es wird eine neue Relation erstell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meidung von Redundanz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 unterscheidet in der Praxis 3 Stufen der Normalis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beispiel: Grundlagen eines Datenbank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ellen Sie eine Datenbank mit deren Hilfe Sie Ihren Patientenstamm und deren Medikation verwalten kön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tte brücksichtigen Sie, das jeder Patient mehrere Medikamente erhalten kan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imimal müssen folgende Datenfelder vorhand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name, Vorname, Straße, Postleitzahl, Ort, Diagnose, Medikament, Dos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64360" cy="905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4824360" cy="2203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03280" y="1557360"/>
            <a:ext cx="108108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9800" y="234936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:n 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n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undsätzliches Problem: Der Auftraggeber (die Pflegekraft) muss dem Auftragnehmer (der Programmierer) verständlich machen, welche Aufgaben mit welcher Genauigkeit von der Datenbank erfüllt werden so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uptaugenmerk sollte dabei auf de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wünschten Exakthei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während der Planung lie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ge bei Nichtbeachtung: Nachträgliche Korrekturen gehen in den meisten Fällen mit einem großen Zeit- und Kostenaufwand ein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zu müssen folgende Punkte abgeklärt wer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Daten sollen im Einzelnen verwalte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Filter- und Such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Eingabe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Ausgabe- und Exportmöglichkeiten sollen möglich se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und wie viele Software-Lizenzen werden zur Umsetzung benötig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bereiche in der Pflegeprax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tz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dienelemente sollten bekannt sein, da diese in allen Datenbanken sehr ähnlich sind. Dazu gehör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lemente der Navigation (nächster/letzter Datensatz, vorheriger/erster Datensatz, neuen Datensatz anleg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chfunktionen (einfache Suche mit Suchfenster, Datenfilter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export in andere Anwendungen (z.B. Word, um dort einen Serienbrief zu erstell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wickl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e Datenbanken werden durch die Führungskraft selbst entworf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ründe hierfür können se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twendiges KnowHow ist bereits vorhan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nde finanzielle Ressourcen zur Beauftragung eines Software-Unternehmens mit der Programmi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nell zu erstellen. (Keine Planung erforderli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 zu erstellen. (Kein besonderes Wissen erforderlich, außer Programmbedienung. D.h., der Mitarbeiter hat die Bedienung in der Han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beliebige Programm verwendbar (freie Auswahl beim Erstell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(Daten)Datei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sind an die Software gebunden, mit denen sie erstellt wu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ung von Daten in Datendateien geht mit redundanten Daten einher.</a:t>
            </a:r>
            <a:br>
              <a:rPr sz="16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dundanz = Gleiche Informationen werden an unterschiedlichen stellen mehrfach gespeichert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formation 1 (I1) und Information 2 (I2) beinhalten beide die gleiche Anschrift. Diese wird jedoch zwei Mal in unterschiedlichen Dateien gespeichert, so dass in I2 ein Eingabefehler im Nachnamen die Folge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durch sehr aufwendige Datenpflege mit hoher Fehlerwahrscheinlichke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dateien können schlecht ausgewerte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unde: Hermann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geb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637000"/>
            <a:ext cx="2305080" cy="30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ermann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979640" y="2205000"/>
            <a:ext cx="1512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64000" y="220500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2276640"/>
            <a:ext cx="5047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1771560"/>
            <a:ext cx="187164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1413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organisation in Datenban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r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dundante Daten können ausgeschlossen werden, da die Information 1 (I1) nur einmal in der Datenbank gespeichert wi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anderen Programmen benutzt werden (z.B. Ausgabe eines Serienbriefs in Wor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 können von mehreren Mitarbeitern gleichzeitig benutzt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oberfläche ist nicht von einer Anwendung (Textverarbeitung etc.) abhängig. Folge: Nur eine Eingabeoberfläche für alle Anwendu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chteile von Datenban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enausgabe is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i einmaliger Verwend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ehr zeitaufwänd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sten für Anschaffung, Wartung und Anpassungen an neue Aufga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altung der Datenbank erfordert i.d.R. einen Programmier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fehler werden an alle Anwendungen weiter gegeb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llgeme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teile einer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 Datenbank besteht a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em Datenbankverwaltung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MS = Database Management Syste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llt alle strukturellen Bestandteile zur Datenorganisation bereit. Z.B. Benutzerrechte, Sprache zur Datenmanipulation, Speichervorgänge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teinander verknüpften Dateien (Tabellen), in denen die Daten enthalten s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B = Datenban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 nach Hersteller, werden diese Dateien (Tabellen) innerhalb des DBMS, oder extern in real existierenden Einzeldateien gespeich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banksystem (DBS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zeichnet man die Einheit von DBMS und D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BS = DBMS +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eilung 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 (eigentliche DB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 (Benutzeroberflä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wendung zur Datenausgabe (z.B. Word, Excel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ck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der Datenspeicheru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onte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nt grundsätzlich der Dateneingabe, -änderung und dem Löschen von Da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ige Datenbanksysteme ermöglichen im Frontend auch die Datenausgabe in Form von druckbaren Berich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icherung von Befehl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zur Datenmanipulation (siehe auch DML), nicht jedoch deren Ausführung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eitstellung individueller Funktionen (z.B. Weitergabe der Daten an die Textverarbeitung; Datensicherung in ein anderes Dateiformat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S: Client-Server-Prinzip (Beispie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2637000"/>
            <a:ext cx="1152720" cy="1295280"/>
          </a:xfrm>
          <a:prstGeom prst="flowChartMagneticDisk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43280" y="126828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rnetse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3280" y="2781360"/>
            <a:ext cx="1944720" cy="10080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grierte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bankform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4221000"/>
            <a:ext cx="1944720" cy="100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eingabe p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dividual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79640" y="1773360"/>
            <a:ext cx="792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3284640"/>
            <a:ext cx="79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0360" y="1197000"/>
            <a:ext cx="1944720" cy="863640"/>
          </a:xfrm>
          <a:prstGeom prst="flowChartPredefined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extdok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2781360"/>
            <a:ext cx="1944720" cy="863640"/>
          </a:xfrm>
          <a:prstGeom prst="flowChartPredefined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al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agra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4221000"/>
            <a:ext cx="1944720" cy="863640"/>
          </a:xfrm>
          <a:prstGeom prst="flowChartPredefined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enausgab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dere Daten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1628640"/>
            <a:ext cx="1079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1628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1628640"/>
            <a:ext cx="107928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peich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14560" y="537372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en-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earb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95640" y="57340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573408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981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as Heil</dc:creator>
  <dc:description/>
  <dc:language>en-US</dc:language>
  <cp:lastModifiedBy>Andreas Heil</cp:lastModifiedBy>
  <dcterms:modified xsi:type="dcterms:W3CDTF">2003-02-02T23:33:34Z</dcterms:modified>
  <cp:revision>110</cp:revision>
  <dc:subject/>
  <dc:title>Einführung in Datenbanksysteme</dc:title>
</cp:coreProperties>
</file>