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8.png" ContentType="image/pn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Rechnertypen und -kompon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B6A-BCA0-4729-929D-598979A5D9C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-online.de/" TargetMode="External"/><Relationship Id="rId2" Type="http://schemas.openxmlformats.org/officeDocument/2006/relationships/hyperlink" Target="http://www.e-online.de/" TargetMode="External"/><Relationship Id="rId3" Type="http://schemas.openxmlformats.org/officeDocument/2006/relationships/hyperlink" Target="http://www.e-online.de/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bios-info.de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lossar.de/" TargetMode="External"/><Relationship Id="rId2" Type="http://schemas.openxmlformats.org/officeDocument/2006/relationships/hyperlink" Target="http://glossary.ges-training.de/glossar/" TargetMode="External"/><Relationship Id="rId3" Type="http://schemas.openxmlformats.org/officeDocument/2006/relationships/hyperlink" Target="http://www.computer-woerterbuch.de/" TargetMode="External"/><Relationship Id="rId4" Type="http://schemas.openxmlformats.org/officeDocument/2006/relationships/hyperlink" Target="http://www.computer-woerterbuch.de/" TargetMode="External"/><Relationship Id="rId5" Type="http://schemas.openxmlformats.org/officeDocument/2006/relationships/hyperlink" Target="http://www.computer-woerterbuch.de/" TargetMode="Externa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er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16320" y="1742400"/>
            <a:ext cx="4311360" cy="3733920"/>
            <a:chOff x="2416320" y="1742400"/>
            <a:chExt cx="4311360" cy="3733920"/>
          </a:xfrm>
        </p:grpSpPr>
        <p:sp>
          <p:nvSpPr>
            <p:cNvPr id="53" name="_s5132"/>
            <p:cNvSpPr/>
            <p:nvPr/>
          </p:nvSpPr>
          <p:spPr>
            <a:xfrm flipV="1">
              <a:off x="2416320" y="4729680"/>
              <a:ext cx="4311360" cy="74628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6280"/>
                <a:gd name="textAreaBottom" fmla="*/ 64440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computer (P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5135"/>
            <p:cNvSpPr/>
            <p:nvPr/>
          </p:nvSpPr>
          <p:spPr>
            <a:xfrm flipV="1">
              <a:off x="2847960" y="398196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5131"/>
            <p:cNvSpPr/>
            <p:nvPr/>
          </p:nvSpPr>
          <p:spPr>
            <a:xfrm flipV="1">
              <a:off x="3278160" y="3236760"/>
              <a:ext cx="2587680" cy="74592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240 h 745920"/>
                <a:gd name="textAreaBottom" fmla="*/ 61668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tand-Alone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5134"/>
            <p:cNvSpPr/>
            <p:nvPr/>
          </p:nvSpPr>
          <p:spPr>
            <a:xfrm flipV="1">
              <a:off x="3710160" y="248832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0,5 bis 15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5130"/>
            <p:cNvSpPr/>
            <p:nvPr/>
          </p:nvSpPr>
          <p:spPr>
            <a:xfrm flipV="1">
              <a:off x="4140360" y="1742040"/>
              <a:ext cx="863280" cy="74628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840 h 746280"/>
                <a:gd name="textAreaBottom" fmla="*/ 47844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er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20 bis 30 Mio. €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ckb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table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code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ührungsempfindliche Geräte (Touchscreen, Mousepad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-Karten-Leseger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on (Spracheing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Tasta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kte Zeichenein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en mit Zusatzfun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der Tastat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ag der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s die Tastatur Ihr ständiges Arbeitsmittel zur Dateneingabe ist. Eine gute Tastatur rechtfertigt auch eine entsprechende Mehrausga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herstellerspezifische Tasten! Falls doch: Einführung der Tastatur im gesamten Unter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rnen Sie die Funktionen der „Standard-Sondertasten“ kennen (F-Tasten, Esc-Taste, Strg-Taste, Alt-Taste, Windows-Taste, Druck-T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1484280"/>
            <a:ext cx="2381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M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ung des Mauszei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-M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wei Ta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croll-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belverbindung / F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nks- / Rechtshä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Maus ist weniger störanfäll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maus benötigt ständig Batter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atztasten benötigen auch zusätzliche Trei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07792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lesen bestehender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allel / USB-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anner (schne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zahl der Scan-Vorgänge pro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der Vorlage (z.B. DIN A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Dokumentenscanner zur Zeit noch sehr teu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: Zusatzkosten durch gut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xterkennung (OCR = Optical Character Recog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8576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Ein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pricht die Geräteleistung den Anforderungen (Bsp.: Einscannen von Dokumenten sehr zeitaufwändig. Profigeräte hingegen sehr teu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die notwendige Schnittstelle zum Anschluss des Gerätes vorhan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en Sie, wie viele Mitarbeiter das Zehn-Finger-System beherrsch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ntscheidend für den „Zeitfaktor Dateneingabe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uell Schulung in Betracht ziehen. (große Zeiterspar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sch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nwand-Projektoren (Bea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tspre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krofi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2406600" cy="2406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Bildschi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öhrenmonitor (Bildbe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(Textverarbeit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größ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1“-Monitor für Bildbearb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 15“ ist gleich Röhre 17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scheidungs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ldwiederholfrequenz (min. 70 Her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lösung (min. 1024 * 768 Pix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r Kontrast &amp; Hell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O'99 Prüfsiegel (Ergono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s (Flachbildschirme sind teu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qualitativ hochwertiger Bildschirm lohnt sich bei langen Bildschirm-Arbeitszeiten in jedem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gleichen Sie die Monitore nebeneinander. (Sichtkontro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achbildschirme sind teurer, jedoch absolut flimmerfrei. Deshalb sehr gute Eignung für Textverarbei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03328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155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1844640"/>
            <a:ext cx="2016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7846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ntenstrah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del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gerä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rmo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nrad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tScript-Dr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Laser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schneller Druck (bis 3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Druckkosten (5 C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druck sehr te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erdrucker sind der Standard im betrieblichen 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gebiet: Text- und Formular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nahme: Farbdruck (in der Regel reicht ein Tintenstrahl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160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Tintenstrah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geschwindigkeit (10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Druck-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ünstiger Farbdruck (kleine Aufla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 Druckkosten (10 Cent Schwarz-Wei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billiger der Drucker, desto teurer das Verbrauchsmaterial (Tin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nen sich für mittleren Druckaufw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gute Eignung für gelegentliche Farbdruc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Geräte ermöglichen sehr guten Fotodru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09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- 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1484280"/>
            <a:ext cx="3313080" cy="46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hä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916280"/>
            <a:ext cx="1943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ntral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other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3000" y="3933720"/>
            <a:ext cx="1942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spei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440" y="1916280"/>
            <a:ext cx="194292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1916280"/>
            <a:ext cx="1943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ä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421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299736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Drucker: Nadeldru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mulardruck mit Durchschlägen mögl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 Druckgeschwindigkei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5 Seiten pro Minu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niedrige Druckkost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 Cent pro Se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echte Druck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Farbdruck mög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tlerer Anschaffungspreis (Gerä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noch sinnvoll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schläge erwünsch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alität nicht von Bedeutung 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27988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– Lautspre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o / 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bwov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en akustische Ausga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ordern eigenen Stellpl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Zukunft von Bedeutung, da akustische Rückmeldung und Spracheingabe und Sprachausgabe zunehm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round-Sound nicht notwe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l. Monitor mit integriertem Lautsprecher benutz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1587600" cy="129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333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medien - Entscheidungshil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 Kriter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en Sie Standard-Gerä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Geräte mit Zusatzfunktionen. (Bedenke: Lernaufw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ungen vor dem Kau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as Ausgabegerät wirklich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das Gerät von mehreren Rechnern gleichzeitig benutzt werden? (z.B. Druc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d dafür Zusatzgeräte notwendig (z.B. Print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m Standard-Betrieb leist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das Gerät in Ausnahmefällen leisten? (z.B. Farbdru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ibt es arbeitsergonomische Vorgaben (die verbindlich sind)?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z.B. Bildschirmarbeitsplatzverordn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„Mainboard“ oder „Hauptplatine“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ste Bestand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ipsa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-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(Speicher, Kart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s im Internet:</a:t>
            </a:r>
            <a:br>
              <a:rPr sz="16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-online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34080" y="2030400"/>
            <a:ext cx="3436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Proz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tlich: Mikro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ch als CPU b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U = Central Proces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steller AMD und 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ordinierung der Befe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chen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ührt die Berechnungen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-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tkomma-Rec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tge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iert die einzelnen Stromimpu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MHz entspricht 1 Mio. Takte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17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Chip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den Datenfluss zwisc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 (EIDE, AGP, US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system (PCI, I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htung: Der Chipsatz benötigt einen eigenen Treib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 = Random Access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 genannter „flüchtiger Speicher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werden bei Stromunterbrechung gelös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: Speichert alle Daten während des Rechnerbetrieb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: Sehr schneller Datenzugri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ckplätze werden als SIMM-Module bezeichnet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Single In-line Memory Mod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 ist abhängig von der verwendeten Software. Für den Arbeitsplatzrechner in der Pflege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. 128 MB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x. 512 MB RAM sinnv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 bei Server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479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54520"/>
            <a:ext cx="309564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075280" y="3710160"/>
            <a:ext cx="1687320" cy="73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= Basic Input Outpu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uch als BIOS-ROM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M = Read Only Memory (nicht flüchtiger Speich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Daten bleiben auch erhalten, wenn der Rechner vom Stromnetz getrenn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onderheit des BIOS-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einstellungen bleiben immer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stellungen des Benutzers bleiben nur erhalten, solange die Batterie des Motherboards funktionstüchtig i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stellt den hardwareseitigen Teil des Betriebssystems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alle hardwareseitigen Einstellungen, z.B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 (Anzahl der Spuren, Sektore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reihenfolge (zuerst von Diskette oder Festplat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Informationen zu Einstellungen unter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bios-info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ower-on-Self-Test (PO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OS wird angesprochen und dessen Befehle abgearbei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lauf des POST-Vorgangs (Was wird geprüft?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zesso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s-System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ystemuhr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afikkarte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beitsspeicher (RAM)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statur angeschloss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ot-Laufwerk wird gesucht – funktionier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ue Hardware wird erkan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mponenten mit eigenem BIOS werden erkannt und geprüft (SCSI, Plug &amp; Play-Kompon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des softwareseitigen Betriebssystems (vom Bootlaufwe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- Bus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Weiterleitung der Daten zwischen den einzelnen Komponen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portiert Daten zwischen Prozessor und Hauptspeic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ress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st die entsprechende Adresse 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bus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uert ob Daten gelesen oder geschrieb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ten von Bussystemen (siehe auch: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 action="ppaction://hlinksldjump"/>
              </a:rPr>
              <a:t>Steckplä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Desk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 kann auf dem Rechner platzi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gnung: Arbeitsplatz mit häufigem Zugriff auf Diskettenlaufwerk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 nach Hersteller wenig bis kein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wierigerer Austausch von Komponenten (z.B. Festpla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 der Anschaffung sollte der benötigte Stellplatz bedacht werden. Voraussetzung ist ein großflächiger Bürotis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885080" y="4508640"/>
            <a:ext cx="21600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Daten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ittstellenstandard: E-IDE = Enhanced Integrated Devic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uss für Festplatten, CD-ROM- und DVD-Laufwer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übertragungsverfahren UDM = Ultra Direct Memory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möglicht die direkte Datenübertragung zwischen Festplatte und Arbeitsspeicher unter Umgehung der C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DMA 66, 100, 133 (höherer Wert = größerer Datendurchsat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drehungen 5.400 oder 7.200 pro M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nderfall SC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 = Small Computer Syst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leistungsanschluss fü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 Datenübertra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ierung erforderl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fü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stpla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436920" cy="240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86640" y="3643200"/>
            <a:ext cx="1081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GP = Accelerated Graphics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rt für Grafikk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CI = Peripheral Component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2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 = Industry Standard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 bis 16-Bit 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in Plug &amp;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Netzwerk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76960" y="1052640"/>
            <a:ext cx="32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Grafikka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grafischen Ausgabe der Daten auf dem Bildschi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 nutzt den AGP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seltenen Fällen auch Karten für PCI-Steckplat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g. Dual-Head-Karten zum Betrieb von zwei Monito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ute Karte nur für Bildbearbeitung oder Spiele notwendig. Ansonsten reicht eine Standard-Karte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ndards nach Auflösung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0 * 48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V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00 * 6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024 * 768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80 * 1024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600 * 1200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XGA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048 * 1536 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therboard – Bussystem: Steckplätze &gt; Weitere K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A-Karten sind veraltet und können in neuen Rechnern nicht mehr verwend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zeitiger Standard: PCI-Ka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sbeisp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ndkarte: ermöglicht Ein- und Ausgabe von Audiosigna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karte: ermöglicht die Verbindung mehrerer lokaler Rech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n zur Verbindung mit dem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DN-Ad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SL-Adapter (enthält Modem und Netzwerk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Schnittstel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SB-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r Parallel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SI-Schnitt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ID-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allele-Schnittstel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äte wie, Drucker, Scanne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ch häufig im Einsa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rielle-Schnittstelle (12,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ltete 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S/2-Schnittstelle (2 und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us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statu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deo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nitor-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dio-Anschlüsse: Eingang (6), Ausgang (7), Mikrofon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B-Anschluss = Universal Serial Bus (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127 Gerä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ell einsetzbar (Maus, Drucker, Scanner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anschluss (4) mit Kontrollleuchte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rDA-Anschluss = Infrared Device Adapter = Infrarot-Schnittstelle (meist Lapt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rewire-Schnitt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selten verwendet, jedoch immer häufiger im Rechner enthal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he Datenübertragungs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Anschluss (bis zu 15 Gerä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356000" y="620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 Speichermedien versteht man im weiteren Sinne alle Hardware-Komponenten, die der Aufbewahrung von Daten dienen (z.B. ROM, RAM, Diskette, Festplatte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Alltag (sprich: im engeren Sinne) bezeichnet man mit dem Begriff Speichermedien alle Komponenten, die der nicht flüchtigen Datenspeicherung dienen und eine Datenspeicherung durch den Nutzer zula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go: Man meint damit nicht ROM und R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peichermedien bezeichnet man auch als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 Speich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gnetspeicher (Diskette, ZIP-Diskette, Festplatte, Magnetband, Magnetka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sche Speicher (CD-ROM, DVD-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üher: Lochk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ößenangab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Kilo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Me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K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48.5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1 G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 Gigabyte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1.024 MB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073.741.824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46040"/>
                <a:tab algn="l" pos="2692440"/>
                <a:tab algn="l" pos="412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 T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 Terabyt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24 GB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1.099.511.627.776 By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Disk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öße versus 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½ Zoll = 1,44 MB oder 72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¼ Zoll = 1,2 MB oder 36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 Zoll = 180 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relativ)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reibschutz manuell aktivier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Datenaustausch, da praktisch jeder Rechner ein Diskettenlaufwerk besitz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peicherte Daten sind „handhabbar“ und damit leichter zu „begreifen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beschäd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Nutzen bei großen Dateien (z.B. Bil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en Sie Kontakt zu Magnetfeldern (z.B. Lautspre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extremer Kälte und Wärme (z.B. Au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utz vor Stau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gnetscheibe nicht berühr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1333440" cy="1419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422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ch als Harddisk (aus dem englischen) bezeich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kapazitä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nn stark vari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zwischen 20 MB und 120 G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w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e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ge Lebensda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großen Datenmengen, Datenaustausch nur per Netzwerk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ädigung der Festplatte führt zum totalen Datenverlu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festplat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 keine Festplatte im eigentlichen Si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ielmehr kann die Festplatte in einem austauschbaren Rahmen eingebau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mit können mehrere Festplatten zur Datensicherung verwende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: Die Festplatte ist somit mobil und kann an einem sicheren Ort aufbewah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E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961920"/>
            <a:ext cx="8136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Festplatte SC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 = Small Computer System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SI-Festplatten unterscheiden sich äußerlich durch eine andere Steckverbind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 Meist nur im Server-Betr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letzte SCSI-Gerät muss „terminiert“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erbei handelt es sich um einen Aufsatz, der den Bus abschließ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auf eine Terminierung verzichtet, kommt es zum Datenverlust bzw. das Gerät funktioniert ni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schneller Festplatten-Zugr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 (im Vergleich mit EIDE-Festpla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zierte Speicherkapazität im Vergleich zu EIDE-Festpla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Mini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eines Mitarbei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kann Platz sparend unter dem Tisch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te Möglichkeiten zur Erweit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t eigenen Stell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 von Störungen durch Fußtrit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 Zeit am häufigsten gekaufter Gehäusety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4437000"/>
            <a:ext cx="2533680" cy="142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6877080" y="3716280"/>
            <a:ext cx="28872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ZIP-Laufwe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rsteller Iom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handelt sich um eine Art „Diskette“, jedoch mit erweiterter Speicherkapazitä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s zu 750 MB Speicherkapazitä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fach zu transport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chere Datenspeicherung (im Vergleich zu Disket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P-Laufwerk zum Lesen des Mediums erforder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Vergleich zu Festplatten recht te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– CD-Laufwe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918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speicherung auf CD‘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ompact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Laufwe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nur lesen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Laufwerke, die lesen und schreiben können (sog. CD-Bren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ung nach Art des Mediu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 = CD, die nur geles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 = CD, die einmal beschrieben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RW = CD, die mehrfach beschrieben und gelöscht werden k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preisgünstiges Speichermedium (50 CD-R = 17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eichert relativ große Datenmengen (600 bis 700 M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-Brenner erforderlich (ca. 100 E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 Preis-Leistungs-Verhältnis (meist) das beste Speichermedium zur Datensicher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medien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wichtig ist die Datensicheru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e Priorität: privat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he Priorität: berufsbezogene 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he Priorität: Unternehmen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häufig müssen Daten gesicher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sich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edrig: Disk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ch: Festpl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hr hoch: mehrere Kopien im Bank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teuer ist das Speichermediu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affungskosten (z.B. Festplatte, CD-RW Laufwerk, Bandlaufwer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brauchsmaterialien (z.B. Disketten, CD-ROMs, Bän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brechungsfreie Stromversor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V = Unterbrechungsfreie Strom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genständiges Gerät, dass die Stromversorgung des Rechners während eines Stromausfalls gewährleist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i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handelt sich um einen Akkumulator, der die 220 Volt Versorgung sicher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romversorgung bei totalem Stromausfall ist in der Regel bis zu 30 Minuten sicher 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line USV: Rechner wird nur bei Stromausfall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USV: Rechner wird ständig von der USV versor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spannungen werden geglättet (nur offline-U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Stromausfall führt nicht zu Datenverl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sätzliche Kosten für die Anschaffung des Gerä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bedingt auf die Leistung des Gerätes (Watt) achten. Dementsprechend viele (oder wenige) Verbraucher können angeschlossen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1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cht das teuerste Produkt ist auch das beste Produk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ufen Sie – wenn möglich – den selben Computer mehrfach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normes Einsparpotenzial von Wartungsarb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ieren Sie sich über neue Technologi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klärungen zu Abkürzungen im Hardware-Sektor finden sich un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glossar.de/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auch als Download verfügb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glossary.ges-training.de/gloss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www.computer-woerterbuch.de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stungssteigerung mit Einbuß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: Je größer die Leistung, desto eher müssen die Rahmenbedingungen beach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 „leistungsstarker Prozessor“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erer Zugriff auf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er: im Betrieb lauter, da größerer Lüfter eingesetzt werden mu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ternative: teures Wasserkühlungs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2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-Neukauf für den Betri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vorzugen Sie Fertig-Systeme eines bekannten Computer-Herstellers (keinen Supermarkt-P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Grund: Je häufiger das System verkauft wird, desto sicherer kann man sein, dass die Komponenten gut aufeinander abgestimmt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Grund: Supermarkt-PCs sollen möglichst viele verschiedene Möglichkeiten bieten (sprich: für jeden etwas dabei). Folge: Die Anzahl der Störfaktoren erhöht sich und damit die Fehleranfällig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„selbst gebastelte“ Modelle eines kleinen Händ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: Praktisch tägliche Änderung der Komponenten. Folge: Der Händler kann nicht abschätzen, ob die Komponenten tatsächlich fehlerfrei miteinander arb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zichten Sie auf Funk-Komponenten (Tastatur, Maus, Netzwerkkarte), da zur Zeit keine Abhörsicherheit gewährleistet werd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 3 v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nittstellen-Analys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legen Sie vor dem Kauf, welche Schnittstellen benötig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in der Regel (nur) 5 PCI-Steckplätze zur Verfüg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enken Sie, das z.B. hochwertige Grafikkarten einen freien Steckplatz zusätzlich benötigen, um Überhitzung zu vermei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-board-Schnittstellen schaffen freie PCI-Steckplät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Problem: Ist die Komponente defekt, funktioniert u.U. das gesamte Motherboard nicht meh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Problem: Die Beschaffung geeigneter Treiber kann u.U. große Schwierigkeiten ber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Problem: On-board-Schnittstellen können nicht ausgebaut werden. Achten Sie daher auf die Möglichkeit, das Gerät im BIOS deaktivieren zu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Big T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splatz mit vielen Zusatzgerä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verhältnisse (Folge: verminderter Wärmesta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ist zu groß für Standard-Schranksysteme (Folge: Rechner muss frei ste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uer in der Anschaff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Platzangebot im Gehäuse wird meist nicht ausgenutzt. Die Anschaffung ist daher in vielen Fällen überflüss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2533680" cy="142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427640" y="51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Server Gehä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78469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einere Unternehmensser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robuste Konstruk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gute Lüft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es sich tatsächlich um einen Server hande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pricht in der Größe dem eines Big To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R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größe: 19 Z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nehmensserver, Netzwerk-Verte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oßzügige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häuseschrank ist gleichzeitig „Klimakammer“. Daher hohe Geräte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er Ein- und Ausbau von Komponen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r Platzverbrau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ndard für größere Netzwer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505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– Tragbare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ei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llwertige Rechner: Laptop,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hner mit Notizfunktion: Handheld,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atzgebi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biler Arbeitspla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transport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en vor Ort möglich (z.B. mit Powerpoi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teu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inge (interne) Erweiterungs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gleichsweise schlechtere Geräteausstattung (z.B. Bildschir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hr leichte Möglichkeit eines Diebstahls (insbesondere der Daten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r sinnvoll, wenn tatsächlich ein mobiles Gerät benötigt w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bedingt den Funktionsumfang bewert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25401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häuse - Entscheidungshil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häuse enthält Netzte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pegel des Lüfter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reichende Ausgangsleistung (300 bis 350 Wa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räuschdämmung (Dämm-Ma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icht zu öffnen (möglichst nicht verschraub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bile Konstruktion (lose Gehäuseteile könnten schnar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rbe (auffällig oder dezen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3:50Z</dcterms:modified>
  <cp:revision>139</cp:revision>
  <dc:subject/>
  <dc:title>PowerPoint Presentation</dc:title>
</cp:coreProperties>
</file>