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Software VI: Krankenhaus(Informationssyste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9C83-B330-428D-BE8F-EE702064DA1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s-ag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H-Inform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SS-KIS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boss-ag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3T15:36:35Z</dcterms:modified>
  <cp:revision>64</cp:revision>
  <dc:subject/>
  <dc:title>PowerPoint Presentation</dc:title>
</cp:coreProperties>
</file>