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Der Zugang zu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7050-AE0E-478E-B24F-9DEFE2033082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elekom.de/" TargetMode="External"/><Relationship Id="rId2" Type="http://schemas.openxmlformats.org/officeDocument/2006/relationships/hyperlink" Target="http://www.t-online.de/" TargetMode="External"/><Relationship Id="rId3" Type="http://schemas.openxmlformats.org/officeDocument/2006/relationships/hyperlink" Target="http://www.dtag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reenet.de/hilfe/einwahl/win9x/dfue_netzwerk/index.html" TargetMode="External"/><Relationship Id="rId2" Type="http://schemas.openxmlformats.org/officeDocument/2006/relationships/hyperlink" Target="http://www.freenet.de/hilfe/einwahl/win9x/verbindung/index.html" TargetMode="External"/><Relationship Id="rId3" Type="http://schemas.openxmlformats.org/officeDocument/2006/relationships/hyperlink" Target="http://www.freenet.de/hilfe/einwahl/win9x/verbindung/index.html" TargetMode="External"/><Relationship Id="rId4" Type="http://schemas.openxmlformats.org/officeDocument/2006/relationships/hyperlink" Target="http://www.freenet.de/hilfe/einwahl/win9x/verbindung/index.html" TargetMode="External"/><Relationship Id="rId5" Type="http://schemas.openxmlformats.org/officeDocument/2006/relationships/hyperlink" Target="http://www.freenet.de/hilfe/einwahl/win9x/verbindung/index.html" TargetMode="External"/><Relationship Id="rId6" Type="http://schemas.openxmlformats.org/officeDocument/2006/relationships/hyperlink" Target="http://www.freenet.de/hilfe/einwahl/win9x/verbindung/index.html" TargetMode="External"/><Relationship Id="rId7" Type="http://schemas.openxmlformats.org/officeDocument/2006/relationships/hyperlink" Target="http://www.freenet.de/hilfe/einwahl/win9x/verbindung/index.html" TargetMode="External"/><Relationship Id="rId8" Type="http://schemas.openxmlformats.org/officeDocument/2006/relationships/hyperlink" Target="http://www.freenet.de/hilfe/einwahl/win9x/verbindung/index.html" TargetMode="External"/><Relationship Id="rId9" Type="http://schemas.openxmlformats.org/officeDocument/2006/relationships/hyperlink" Target="http://www.freenet.de/hilfe/einwahl/win9x/verbindung/index.html" TargetMode="External"/><Relationship Id="rId10" Type="http://schemas.openxmlformats.org/officeDocument/2006/relationships/hyperlink" Target="http://www.freenet.de/hilfe/einwahl/win9x/verbindung/index.html" TargetMode="External"/><Relationship Id="rId11" Type="http://schemas.openxmlformats.org/officeDocument/2006/relationships/hyperlink" Target="http://www.freenet.de/hilfe/einwahl/win9x/verbindung/index.html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Provider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vider = Dienstleister, der Ihnen den Zugang zum Internet benöti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neben benötigen Sie noch einen Anbieter, der Ihnen die dafür notwendige Telefonleitung zur Verfügung stel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kann möglich sein, das Ihr Telefonanbieter auch gleichzeitig Ihr Provider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Telefonanschlu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elekom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telekom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BerliKom, Arco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zu telefon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Ihren Internet-Provider zu errei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Intern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-Online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t-online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dtag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Freenet, AOL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eine Verbindung zum Internet herzuste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wählen sich dazu in den Hauptrechner Ihres Anbieters ein. Von dort aus erfolgt dann die Verbindung zum Inter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erhalten von Ihrem Anbieter 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, die Sie zur Konfiguration der DFÜ-Software benöti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ll-by-Ca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sart beachten! (Sekundengenau, pro Minute, pro 3 Minu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 oder ohne Anmeldu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Anmeldung notwendi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Grund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wird ein Mindestumsatz gefordert (pro Monat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Freiminuten angeboten, wenn eine Grundgebühr bezahlt wir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zusätzliche Einwahl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cor by call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Anmel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Grundgebü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 Cent Einwahlgebühr (d.h. bei jeder Neueinwahl ins Intern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Cent pro Minute (bei 1-Minuten-Ta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SL-Flatr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eitlich unbeschränkte Einwahl ins Interne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 Eventl. Volumenbegrenzu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meldung immer erforder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fl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Volumenbeschränk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Benut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5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5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1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1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sätzliche Kos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gebühr für DSL-Zugang = 9,99 Euro (ISDN XXL) bis 19,99 Euro (T-Net) Anschlussgebühren für den Telefon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malige Anschlussgebühr für DSL-Zug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Hardware-Voraussetz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02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Analo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Modem“ (Download &amp; Upload: 56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oges Mod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ISD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ISDN-Karte“ (Download &amp; Upload: 64 bzw.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TBA (Signalumwandlung Telefonleitung &lt;-&gt; Endgerä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DN-Karte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DS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DSL-Modem“ (Download: 768 kbit/s, Upload: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ISDN-Anschluss: NT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litter (Trennung Telefonsignal und DSL-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SL-Modem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karte (Anschluss an den Rech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Software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rätetreib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em Computer die Kommunikation mit dem Endgerät (z.B. Modem, ISDN-Karte, DSL-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FÜ-Soft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ie Nutzung des Gerätetreiber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für das 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der ersten Konfiguration benötigen Si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hre persönlich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nummer des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ventl. Zusatzdaten (meist nicht notwendig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Zielrech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DNS-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lfeseiten Freenet für Windows 95/9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 installieren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freenet.de/hilfe/einwahl/win9x/dfue_netzwerk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einer DFÜ-Verbindung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freenet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ilf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einwahl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/win9x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verbindung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5435640" y="1773360"/>
            <a:ext cx="2951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Ablauf der Einrich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ndbuch zur Installation der Hardware und des Providers lesen!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- bzw. Einbau der 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kabelung (Stecker müssen einrasten bzw. verschraub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allation der Software (Achtung: Teilweise muss erst die Software installiert werden und erst danach die Hardware in den Rechner eingebau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-Netzwerk konfigurier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owser konfigurieren (z.B. Internet-Explorer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Programm konfigurieren mit folgenden Angab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Adre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eingangs-Server (P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ausgangs-Server (SM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329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DS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197000"/>
            <a:ext cx="75582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Kombikarte DSL &amp;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705800" cy="4726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651640" y="981000"/>
            <a:ext cx="2592360" cy="2592360"/>
          </a:xfrm>
          <a:prstGeom prst="ellipse">
            <a:avLst/>
          </a:prstGeom>
          <a:solidFill>
            <a:srgbClr val="ffffff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2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bikart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DSL-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Netzwerk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ISDN-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40000" y="3141720"/>
            <a:ext cx="8636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867280" y="4941720"/>
            <a:ext cx="208944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1:49Z</dcterms:modified>
  <cp:revision>128</cp:revision>
  <dc:subject/>
  <dc:title>PowerPoint Presentation</dc:title>
</cp:coreProperties>
</file>