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AE50-6A47-4F2C-AE84-CC111D7B5D6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1T23:13:14Z</dcterms:modified>
  <cp:revision>112</cp:revision>
  <dc:subject/>
  <dc:title>PowerPoint Presentation</dc:title>
</cp:coreProperties>
</file>