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Software II: Standard-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C7AE-9CF2-431C-B4FA-D5CC36322157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3809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den „anonymen“ Markt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für einen einzelnen Anwender (Unternehmen) entwick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liches Informations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umen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batt abhängig von der Anzahl der Lizen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 5 Lizenzen (Microsoft) möglich, wobei diese nicht auf ein einzelnes Software-Produkt beschränk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L-Lizen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chüler, Studenten, Lehrkräfte)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ilweise enorme Raba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erhält eine Voll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 ist der Nachweis als Studen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ie Software darf nicht kommerziell benutzt werden! Eine private Weiternutzung nach dem Studium ist jedoch erlaubt (zur Zeit no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et-Lizenzprogram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wird nicht gekauft, sondern für einen bestimmten Zeitraum gemie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r Hersteller bietet alle Lizenzmodell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Praxis gilt deshal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die verschiedenen Lizenzangebote des Herstel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können Sie eine ältere Vollversion kostengünstig einkaufen, um danach ein Upgrade auf das aktuelle Produkt durchzufüh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Vollversionen, die als Beilage in einer Computerzeitschrift angeboten werden, berechtigen in der Regel nicht zu einem Upgrad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bindung: Bedenken Sie, das Verkäufer von Software nicht an die „Unverbindliche Preisempfehlung“ gebunden sind. Vergleichen Sie da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grade-Garant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rantie des Herstellers für einen bestimmten Zeitraum nach Kauf des Produk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garantiert ein kostenloses Upgrade im Falle einer neueren 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aktische Konsequenz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en Sie auf Hersteller, die solche Garantieleistungen anbieten. Kaufen Sie rechtzeitig das „alte“ Produkt und führen Sie anschließend das Upgrade durch. Sie besitzen dann 2 Produkte und können wählen, welches zum Einsatz ko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ice-Pakete enthalten mehrere Software-Produkte, die jeweils eine spezielle Aufgabe erfüllen. Meist sind in einem Paket enthal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-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Mail-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usatztools: z.B. Texterkennung, Sprachausgab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in Office-Paketen enthaltenen Software-Produkte sind i. d. R. auch einzeln erhält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Office-Paket ist für alle Betriebssysteme erhältlich (z.B. Microsoft Office nur für die Betriebssysteme Windows und Mac OS, nicht jedoch für Linu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Office-Pakete und deren 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Orientier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kann als „Standard-Software“ betracht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. h. jeder professionelle Nutzer eines Rechners sollte diese Anwendungen „kennen“ und sich mindestens mit der Textverarbeitung vertraut mac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 Software ist in der Regel weit verbreitet. D. h. man findet leichter Hilfe und das erworbene Wissen kann auch bei einem Unternehmenswechsel weiter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 der Office-Pak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nzelnen Anwendungen sind aufeinander abgestimm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Datenaustausch zwischen den Anwendungen wird dadurch erleicht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ben dem (Standard-)Funktionsumfang können eigene Funktionen erstell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aussetzung hierfür ist ein offener Quellcode der Software oder eine eigene Programmiersprache, die im Office-Paket enthalten ist (z.B. Visual Basic for Applications (VBA) im Microsoft Office-Pake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Funktionen sollten nur in Absprache mit der EDV-Abteilung und der Unternehmensleitung eingeführt werden! Andernfalls besteht die Gefahr, dass der Mitarbeiter das Unternehmen verlässt und damit das notwendige Wissen verloren geht. Konsequenz: Datenverlu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extver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ief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nbrie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Formul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re Druckwerke (über 200 Seiten) mit Einschrän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esktop Publish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rstellen von Internet-Sei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 zur Textverarbeitung kann sowohl im Desktop Publishing als auch zur Gestaltung einfacher Internet-Seiten verwendet werden. Man sollte sich jedoch in jedem Fall vorher fragen, welche Erwartungen (genau) erfüllt werden so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Word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WordPerfect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Writer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Writ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Tabelle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omatische Berechnung von Tabellenin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funktionen zur statistischen Berechn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Diagra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ung als Datenbasis (z.B. für Serienbrie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melumfang in der Regel für die meisten betrieblichen Berechnungen ausreich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Excel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Quattro Pro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Calc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Calc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umfangreicher strukturierter Datenbestä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waltung von Datenbeständen, die von mehreren Anwendungen benutz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 B. Patientendaten einer Sozialstation (Anwendungen: Briefverkehr, Rechnungsschreibung, Pflegedokument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edienung von Datenbanken weicht stark von anderen Anwendungen ab. Da jedoch langfristig in allen Betrieben Datenbanken zum Einsatz kommen werden, sollte der Nutzer über folgende Kenntnisse verfüg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dienelemente einer 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sätzliche Funktionsweise und Aufbau einer Daten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Office-Pakten enthaltene Datenbanken eignen sich nicht für „sehr große“ Datenbestände (z. B. eines Krankenhauses), da deren Leistungsfähigkeit eingeschränk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Access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aradox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Base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: nicht enthalten 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Präsentations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Präsentations-Fol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und Durchführung von Beamer-Präsenta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wurf von Durchführung von Werbepräsentationen (selbstlaufend), z. B. auf Messen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wendung der Software für geübte Nutzer einer Textverarbeitung sehr leich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: Oft werden die technischen Möglichkeiten zu ausgiebig genutzt und der Endnutzer vom Inhalt der Präsentation abgele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chtigste Grundregel: Die Präsentation muss unter den vorgegebenen Bedingungen gut lesbar sein (Schriftgröße, Hintergrundkontrast zur Schriftfarbe in hellen Räume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owerpoint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Presentations 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Impress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Impress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Bildbearbeitung / Zeichenpro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F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rbeitung von Grafi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von Grafiken / Freihandzei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Einsatzgebiet und Ausstattung der Software, eignen sich die Produkte entweder mehr zur Fotobearbeitung (Nachbearbeitung) oder mehr zum Erstellen eigener Grafik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 Office-Paketen enthaltenen Produkte stellen i. d. R. nur Grundfunktionen zur Verfüg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/ Produkte (aktuelle Beispiel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rosoft: Photo Editor (2002/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rel: nicht enthalten (10) / Ausweichprodukt: Corel Graphics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n: StarOffice Draw 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Open Office Draw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eware: Gi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Leistungsgr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en in Office-Produkten reichen meist im betrieblichen Alltag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grenzen ergeben sich u. a. dur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zahl der benötigten 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ögliche Anzahl der gleichzeitigen Nut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n Leistungsverlust bei Mehrplatz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griffsgeschwindigkeit (insbesondere bei Datenbank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Leistungsgrenze erreicht, muss auf Spezialprodukte ausgewichen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oschürenerstell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Wor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age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tistische Berechnung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Excel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re Datenbank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Acces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SQL-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wendige Präsentationen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owerpoin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tchware Mediator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tobearbeitung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S Photo Edit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dobe Photo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En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Wahrscheinlichkeit von Software-Fehlern (= ausgereiftes Produ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Zukunftssicher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nell verfüg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Entwicklungs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Upgrade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Wahrscheinlichkeit von Software-Fehl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kunftssicherheit abhängig vom Programmierer und dessen Dok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fügbar, erst nachdem die Software entwickelt wu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zeugset Software-Nutz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 mit einer Software effektiv arbeiten zu können, sollten vor der Nutzung folgende Fragen abgeklärt werden (Beispiel: Erzeugung eines Word-Dokument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(inhaltlichen) Materialien benötige ich zur Datei-Erstell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handschriftliches Skript, Bücher, Bilder (als Grafik-Dat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Software benötige ich zur Dateibearbeitung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i-Export-Möglichkeiten gibt es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RTF, HTML, 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Präsentatio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Beamer (= Projektor), Drucker (zum Folienausdru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Hilfsmittel benötige ich zur Datenweitergabe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-Mail, Disk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sen sich die Daten mit den mir zur Verfügung stehenden Mitteln sicher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Probleme der Speicherung bei sehr großer Word-Dat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er Empfänger das von mir erzeugte Datenformat mit seinen Mitteln bearbeiten?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Empfänger besitzt Apple Macintosh und hat deshalb Probleme mit der korrekten Übernahme von Word-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Nach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in der Programmgestaltung können nicht oder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weise überflüssige Funkti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dividual-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</a:rPr>
              <a:t>Vorte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Lizenz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ene Wünsche können voll berücksich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en auf das Wesentliche beschrän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651640"/>
            <a:ext cx="777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ie Vorteile der Standard-Software entsprechen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den Nachteilen der Individual-Software</a:t>
            </a:r>
            <a:br>
              <a:rPr sz="1400"/>
            </a:br>
            <a:r>
              <a:rPr b="0" lang="de-DE" sz="1400" spc="-1" strike="noStrike">
                <a:solidFill>
                  <a:srgbClr val="d00f04"/>
                </a:solidFill>
                <a:latin typeface="Arial"/>
              </a:rPr>
              <a:t>und umgekehr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ist eine Lizenz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Lizenz berechtigt zur Nutzung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Kauf einer Lizenz entspricht nicht dem Kauf der Software! D. h. der „Datenträger“ mit dem eigentlichen Programm wird gesondert in Rechnung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r darf die Software benutz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Regel benötigt man für jeden Rechner eine Lizenz (sprich: fünf Rechner = fünf Lizenz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existieren jedoch auch Software-Produkte, deren Lizenz an eine Person gebunden ist! (z. B. Entwicklungs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lligte Lizenz, die zum Einsatz der Software an einem Arbeitsplatz berechti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Upgrade setzt voraus, dass Sie im Besitz einer älteren Vollversio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97 und möchten nun Word 2000 einsetzen. In diesem Fall können Sie ein „Upgrade“ kaufen. Sie benötigen also keine Vollvers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Achten Sie darauf, welche älteren Versionen zum Upgrade berechtigen. Eventuell kommt ein Mehrfach-Upgrade in F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sitzen Word 2.0 und können deshalb ein Upgrade auf Word 97 kaufen. Dies berechtigt Sie wiederum zu einem Upgrade auf Word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lizenzrechtlich einem Upgrade, d. h. alle Voraussetzungen eines Upgrades müssen erfüllt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Das Crossgrade gestattet ein Upgrade v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Produkt des gleichen Herstell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bei der Kunde jedoch nicht das gleiche Produkt gebu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im Internet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conceptdraw.com/de/purchase/CDPMindMap/upgrade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-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isch unterscheidet man zudem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version“ einer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ere Fehler wurden beho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einere Funktionen neu hinzu gefügt oder verbess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ist kosten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Upgrade und Update werden häufig von Software-Händlern synonym verwendet. Beachten Sie daher unbedingt, was der jeweilige Händler mit dem Begriff verbind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hebung eines oder mehrerer kleiner Fehl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erhält dadurch keine neuen 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ugfix kann in der Regel kostenlos vom Hersteller bezogen werden (meist per Download aus dem Interne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 sind Lizenzprogram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dienen der Preisgestaltung beim Verkauf ein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Man kann die gleiche Software zu unterschiedlichen Preisen bezi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ied: Je teurer eine Lizenz ist, desto mehr Zusatzleistungen sind damit ver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zenzprogramme werden vom Hersteller einer Software angeboten. D. h. jeder Hersteller bietet andere Lizenzprogramme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s hande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ls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 eine Softwar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Verwaltung von Lizenz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: Lizenzprogram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crosoft System-Builder 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m Beispiel Word X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Umverpack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Handbuch als Print-Version (lediglich eine Einführu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kostenloser Support durch den Herst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EM-Vers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or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leiche wie für die System-Builder Version. Zu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oftware darf nur mit einem neuen Rechner oder mit einer neuen Festplatte verkauf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Einzelverkauf von OEM-Software ist nicht zuläss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insbesondere im Business-Bereich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hnen OEM-Software ohne entsprechende Hardware angeboten: Finger weg! Sie erwerben damit keine gültige Lize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1-05T21:59:01Z</dcterms:modified>
  <cp:revision>95</cp:revision>
  <dc:subject/>
  <dc:title>PowerPoint Presentation</dc:title>
</cp:coreProperties>
</file>