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9.png" ContentType="image/png"/>
  <Override PartName="/ppt/media/image18.wmf" ContentType="image/x-wmf"/>
  <Override PartName="/ppt/media/image14.wmf" ContentType="image/x-wmf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.jpeg" ContentType="image/jpeg"/>
  <Override PartName="/ppt/media/image7.png" ContentType="image/pn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. Pflegeinformatik: Einordnung und Grundla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B43D-2918-4656-9F9D-DE431A077729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op500.org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ckpunkte der Informatik-Geschich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s 1960: Informatik als Teil der Wissenschaftsdisziplinen Logik, Mathematik, Elektrotechnik u.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k seit 1960 eigenständige Wissensch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ige Eckpunk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50 v. Chr.: Verwendung des Abak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774: Mechanische Rechenmas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37: Z1 (Hersteller Conrad Zu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1: Der erste Personal Computer (Hersteller IB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2: Commodore 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4: Apple Macinto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6: Commodore Ami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90: Breite Nutzung des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Anwendungsgebiet der 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eigenständiger wissenschaftlicher Fachbere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Wirtschaftsinformatik beschäftigt sich m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Konzep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Entwicklun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Einführun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er Wartung von rechnergestützten betrieblich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formationssystem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mmunikationssystem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ieht sich allgemein auf Wirtschaftsbetriebe und Verwal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atzfrag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kann ich die betrieblichen Aufgaben bzw. Abläufe mit Hilfe der Informationstechnologie verbesser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flege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33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Anwendungsgebiet der 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Spezialgebiet der Wirtschafts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t teilweise das Wissen der Medizin-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in Deutschla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och kei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eigenständiger wissenschaftlicher Fachbere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Pflegeinformatik beschäftigt sich m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nzentrierte Anwend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onssys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pertensys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atzfrag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kann ich die Aufgaben bzw. Abläufe der Pflege mit Hilfe der Informationstechnologie verbesser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finition Pflege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4608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flegeinformatik ist eine Kombination aus Informatik als Grundlagenwissenschaft, Informatik als angewandte Wissenschaft und aus Pflegewissenschaft.</a:t>
            </a:r>
            <a:br>
              <a:rPr sz="2000"/>
            </a:b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ie unterstützt das Managen und Verarbeiten von Pflegedaten, Informationen und Wissen, um die pflegerische Praxis effektiv gestalten zu können.“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Graves und Corcoran 1989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 Hannah et al. 2002, S.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38560" y="519120"/>
            <a:ext cx="360036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0" spc="-1" strike="noStrike">
                <a:solidFill>
                  <a:srgbClr val="eaeaea"/>
                </a:solidFill>
                <a:latin typeface="Arial"/>
              </a:rPr>
              <a:t>?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ordnung der Pflege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722840" y="3681360"/>
            <a:ext cx="3809520" cy="2325600"/>
            <a:chOff x="4722840" y="3681360"/>
            <a:chExt cx="3809520" cy="2325600"/>
          </a:xfrm>
        </p:grpSpPr>
        <p:cxnSp>
          <p:nvCxnSpPr>
            <p:cNvPr id="105" name="_s20511"/>
            <p:cNvCxnSpPr>
              <a:stCxn id="106" idx="1"/>
              <a:endCxn id="107" idx="2"/>
            </p:cNvCxnSpPr>
            <p:nvPr/>
          </p:nvCxnSpPr>
          <p:spPr>
            <a:xfrm rot="10800000">
              <a:off x="5614200" y="4085280"/>
              <a:ext cx="333360" cy="1716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20509"/>
            <p:cNvCxnSpPr>
              <a:stCxn id="109" idx="1"/>
              <a:endCxn id="107" idx="2"/>
            </p:cNvCxnSpPr>
            <p:nvPr/>
          </p:nvCxnSpPr>
          <p:spPr>
            <a:xfrm rot="10800000">
              <a:off x="5614200" y="4085280"/>
              <a:ext cx="333360" cy="107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20504"/>
            <p:cNvCxnSpPr>
              <a:stCxn id="111" idx="1"/>
              <a:endCxn id="107" idx="2"/>
            </p:cNvCxnSpPr>
            <p:nvPr/>
          </p:nvCxnSpPr>
          <p:spPr>
            <a:xfrm rot="10800000">
              <a:off x="5614200" y="4085280"/>
              <a:ext cx="333360" cy="435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7" name="_s20500"/>
            <p:cNvSpPr/>
            <p:nvPr/>
          </p:nvSpPr>
          <p:spPr>
            <a:xfrm>
              <a:off x="4722840" y="3681360"/>
              <a:ext cx="1784520" cy="4046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_s20501"/>
            <p:cNvSpPr/>
            <p:nvPr/>
          </p:nvSpPr>
          <p:spPr>
            <a:xfrm>
              <a:off x="5947920" y="4314960"/>
              <a:ext cx="2584440" cy="411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Wirtschafts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20508"/>
            <p:cNvSpPr/>
            <p:nvPr/>
          </p:nvSpPr>
          <p:spPr>
            <a:xfrm>
              <a:off x="5947920" y="4955760"/>
              <a:ext cx="2584440" cy="411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Medizinische 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_s20510"/>
            <p:cNvSpPr/>
            <p:nvPr/>
          </p:nvSpPr>
          <p:spPr>
            <a:xfrm>
              <a:off x="5947920" y="5595840"/>
              <a:ext cx="2584440" cy="411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flege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83760" y="1657080"/>
            <a:ext cx="3693600" cy="3233160"/>
            <a:chOff x="383760" y="1657080"/>
            <a:chExt cx="3693600" cy="3233160"/>
          </a:xfrm>
        </p:grpSpPr>
        <p:sp>
          <p:nvSpPr>
            <p:cNvPr id="113" name="_s20515"/>
            <p:cNvSpPr/>
            <p:nvPr/>
          </p:nvSpPr>
          <p:spPr>
            <a:xfrm>
              <a:off x="383760" y="2120040"/>
              <a:ext cx="2768040" cy="2770200"/>
            </a:xfrm>
            <a:prstGeom prst="donut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_s20516"/>
            <p:cNvSpPr/>
            <p:nvPr/>
          </p:nvSpPr>
          <p:spPr>
            <a:xfrm>
              <a:off x="3522960" y="276588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_s20517"/>
            <p:cNvSpPr/>
            <p:nvPr/>
          </p:nvSpPr>
          <p:spPr>
            <a:xfrm>
              <a:off x="730440" y="2466720"/>
              <a:ext cx="2076480" cy="2077560"/>
            </a:xfrm>
            <a:prstGeom prst="donut">
              <a:avLst>
                <a:gd name="adj" fmla="val 1666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_s20518"/>
            <p:cNvSpPr/>
            <p:nvPr/>
          </p:nvSpPr>
          <p:spPr>
            <a:xfrm>
              <a:off x="3522960" y="239616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Wirtschafts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_s20519"/>
            <p:cNvSpPr/>
            <p:nvPr/>
          </p:nvSpPr>
          <p:spPr>
            <a:xfrm>
              <a:off x="1076040" y="2812320"/>
              <a:ext cx="1384200" cy="1384920"/>
            </a:xfrm>
            <a:prstGeom prst="donut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20520"/>
            <p:cNvSpPr/>
            <p:nvPr/>
          </p:nvSpPr>
          <p:spPr>
            <a:xfrm>
              <a:off x="3522960" y="202644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Medizin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_s20521"/>
            <p:cNvSpPr/>
            <p:nvPr/>
          </p:nvSpPr>
          <p:spPr>
            <a:xfrm>
              <a:off x="1422720" y="3159360"/>
              <a:ext cx="691920" cy="69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_s20522"/>
            <p:cNvSpPr/>
            <p:nvPr/>
          </p:nvSpPr>
          <p:spPr>
            <a:xfrm>
              <a:off x="3522960" y="165708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Pflege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50920" y="119700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flegeinformatik als Spezialitä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56240" y="2852640"/>
            <a:ext cx="448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flegeinformatik als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genständige Diszipl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0" y="907920"/>
            <a:ext cx="8675640" cy="554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ormation &amp; Da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2879640" cy="4967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formationen si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nsch: Bilder und Begrif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mputer: Zuständen „Ein“ und „Aus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n Prozess der Rückgewinnung von Daten in „verständliche“ Information nennt ma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bstrak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formationen können gespeichert werden (Mensch und Computer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52720" y="1125000"/>
            <a:ext cx="2879640" cy="4967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 sind verschlüsselte Information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rden als Signal abgebildet (=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präsenta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nd kopier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shalb leicht zu sich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auswert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zu korrig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meidung von Redundanzen mög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ötigen Rechner zur Nutz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nd leichter manipulierbar (im negativen Sin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09800" y="3284640"/>
            <a:ext cx="1513080" cy="3682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92760" y="3284640"/>
            <a:ext cx="1512720" cy="3682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7" idx="0"/>
            <a:endCxn id="128" idx="0"/>
          </p:cNvCxnSpPr>
          <p:nvPr/>
        </p:nvCxnSpPr>
        <p:spPr>
          <a:xfrm flipH="1" rot="16200000">
            <a:off x="4607640" y="2232720"/>
            <a:ext cx="2160" cy="2083320"/>
          </a:xfrm>
          <a:prstGeom prst="bentConnector3">
            <a:avLst>
              <a:gd name="adj1" fmla="val -13700000"/>
            </a:avLst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30" name=""/>
          <p:cNvCxnSpPr>
            <a:stCxn id="128" idx="2"/>
            <a:endCxn id="127" idx="2"/>
          </p:cNvCxnSpPr>
          <p:nvPr/>
        </p:nvCxnSpPr>
        <p:spPr>
          <a:xfrm rot="5400000">
            <a:off x="4606920" y="2643840"/>
            <a:ext cx="2160" cy="2083320"/>
          </a:xfrm>
          <a:prstGeom prst="bentConnector3">
            <a:avLst>
              <a:gd name="adj1" fmla="val 13700000"/>
            </a:avLst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1" name=""/>
          <p:cNvSpPr/>
          <p:nvPr/>
        </p:nvSpPr>
        <p:spPr>
          <a:xfrm>
            <a:off x="3635280" y="2660760"/>
            <a:ext cx="1944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prä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35280" y="3943440"/>
            <a:ext cx="1944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strak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VA-Prinzip (Mensch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492360" y="1125360"/>
            <a:ext cx="2116440" cy="1833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851280" y="3716280"/>
            <a:ext cx="1079640" cy="903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7236000" y="4076640"/>
            <a:ext cx="1079280" cy="635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062760" y="3141720"/>
            <a:ext cx="957240" cy="1079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6227640" y="4724280"/>
            <a:ext cx="1079640" cy="630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Zum Downloaden klicken"/>
          <p:cNvPicPr/>
          <p:nvPr/>
        </p:nvPicPr>
        <p:blipFill>
          <a:blip r:embed="rId6"/>
          <a:stretch/>
        </p:blipFill>
        <p:spPr>
          <a:xfrm>
            <a:off x="468360" y="314496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Zum Downloaden klicken"/>
          <p:cNvPicPr/>
          <p:nvPr/>
        </p:nvPicPr>
        <p:blipFill>
          <a:blip r:embed="rId7"/>
          <a:stretch/>
        </p:blipFill>
        <p:spPr>
          <a:xfrm>
            <a:off x="1260360" y="422604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Zum Downloaden klicken"/>
          <p:cNvPicPr/>
          <p:nvPr/>
        </p:nvPicPr>
        <p:blipFill>
          <a:blip r:embed="rId8"/>
          <a:stretch/>
        </p:blipFill>
        <p:spPr>
          <a:xfrm>
            <a:off x="1692360" y="307332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79280" y="2708280"/>
            <a:ext cx="302436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08720" y="2708280"/>
            <a:ext cx="302400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14880" y="4149720"/>
            <a:ext cx="431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03640" y="41497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21985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saufnah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24360" y="21985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s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1120" y="299088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s-verarbei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VA-Prinzip (Comput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419640" y="1200240"/>
            <a:ext cx="1793880" cy="1508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963720" y="5033880"/>
            <a:ext cx="1496880" cy="439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547640" y="2793960"/>
            <a:ext cx="1079640" cy="12114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7164360" y="2924280"/>
            <a:ext cx="1079640" cy="1269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659640" y="4508640"/>
            <a:ext cx="1079280" cy="9842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468360" y="3933720"/>
            <a:ext cx="1079280" cy="100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539640" y="3132000"/>
            <a:ext cx="1079640" cy="728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5867280" y="3500280"/>
            <a:ext cx="1079640" cy="789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2052720" y="3884760"/>
            <a:ext cx="1079280" cy="1056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Zum Downloaden klicken"/>
          <p:cNvPicPr/>
          <p:nvPr/>
        </p:nvPicPr>
        <p:blipFill>
          <a:blip r:embed="rId10"/>
          <a:stretch/>
        </p:blipFill>
        <p:spPr>
          <a:xfrm>
            <a:off x="3708360" y="370044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9280" y="2708280"/>
            <a:ext cx="302436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08720" y="2708280"/>
            <a:ext cx="302400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14880" y="4149720"/>
            <a:ext cx="431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03640" y="41497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21985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Daten)Ein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51640" y="21985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Daten)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21120" y="299088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Daten)Verarbei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e für die Pfleg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der IT-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der IT-Grenz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rechtlicher Grenz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menschlicher Grenz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chätzen der Kosten bzw. Kostenverhältniss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Wie viel kostet welche Lösung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fahren in der Prax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Überschätzen der Leistungsfähigkeit von IT-System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Überschätzen der EDV-Kenntnisse der Mitarbei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ätzen des Planungs- und Umsetzungsaufwandes bei der Einführung neuer Syste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ätzen des Wartungsaufwand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ätzen der Datensicherung und der Datensicherhe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 heut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Bezug auf die Rechenleis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6 % der Bevölkerung (14 – 64 Jahre) besitzen einen PC im Hausha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st alle klein und mittelständischen Betriebe nutzen mindestens einen P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. 80 % dieser Betriebe betreiben ein eigenständiges Netzwe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percomputer NEC Earth-Simulator (5120 Prozessoren)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top500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Bezug auf das Intern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napp 50 % der Bevölkerung nutzt das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70 % der Betriebe nutzen das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 60 % nutzen E-Mail als Kommunikationsmed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Bezug auf 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95 % der Betriebe setzen Standard-Software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0 % setzen kaufmännische Software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0 % setzen Datenbanken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teile der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297160" y="1238400"/>
            <a:ext cx="4478400" cy="4316400"/>
            <a:chOff x="2297160" y="1238400"/>
            <a:chExt cx="4478400" cy="4316400"/>
          </a:xfrm>
        </p:grpSpPr>
        <p:sp>
          <p:nvSpPr>
            <p:cNvPr id="57" name="_s45074"/>
            <p:cNvSpPr/>
            <p:nvPr/>
          </p:nvSpPr>
          <p:spPr>
            <a:xfrm flipH="1" flipV="1">
              <a:off x="3430080" y="3203640"/>
              <a:ext cx="55260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_s45073"/>
            <p:cNvSpPr/>
            <p:nvPr/>
          </p:nvSpPr>
          <p:spPr>
            <a:xfrm>
              <a:off x="2297160" y="2443320"/>
              <a:ext cx="1162080" cy="1161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Problem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im Betri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_s45072"/>
            <p:cNvSpPr/>
            <p:nvPr/>
          </p:nvSpPr>
          <p:spPr>
            <a:xfrm flipH="1">
              <a:off x="3852720" y="4032360"/>
              <a:ext cx="341280" cy="4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_s45071"/>
            <p:cNvSpPr/>
            <p:nvPr/>
          </p:nvSpPr>
          <p:spPr>
            <a:xfrm>
              <a:off x="2930400" y="4392720"/>
              <a:ext cx="1162080" cy="1162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Daten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(Informatio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_s45070"/>
            <p:cNvSpPr/>
            <p:nvPr/>
          </p:nvSpPr>
          <p:spPr>
            <a:xfrm>
              <a:off x="4876920" y="4032360"/>
              <a:ext cx="342720" cy="4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_s45069"/>
            <p:cNvSpPr/>
            <p:nvPr/>
          </p:nvSpPr>
          <p:spPr>
            <a:xfrm>
              <a:off x="4979880" y="4392720"/>
              <a:ext cx="1162080" cy="1162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Programm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(Softwa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_s45068"/>
            <p:cNvSpPr/>
            <p:nvPr/>
          </p:nvSpPr>
          <p:spPr>
            <a:xfrm flipV="1">
              <a:off x="5087880" y="3203640"/>
              <a:ext cx="55404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_s45067"/>
            <p:cNvSpPr/>
            <p:nvPr/>
          </p:nvSpPr>
          <p:spPr>
            <a:xfrm>
              <a:off x="5613480" y="2443320"/>
              <a:ext cx="1162080" cy="1161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aschin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(Hardwa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_s45066"/>
            <p:cNvSpPr/>
            <p:nvPr/>
          </p:nvSpPr>
          <p:spPr>
            <a:xfrm flipV="1">
              <a:off x="4535640" y="2400480"/>
              <a:ext cx="0" cy="58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_s45065"/>
            <p:cNvSpPr/>
            <p:nvPr/>
          </p:nvSpPr>
          <p:spPr>
            <a:xfrm>
              <a:off x="3954600" y="1238400"/>
              <a:ext cx="1162080" cy="1162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ens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_s45064"/>
            <p:cNvSpPr/>
            <p:nvPr/>
          </p:nvSpPr>
          <p:spPr>
            <a:xfrm>
              <a:off x="3954600" y="2982960"/>
              <a:ext cx="1162080" cy="116208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eiche der Informatik (Kerninformati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060560" y="1550880"/>
            <a:ext cx="6949800" cy="4318200"/>
            <a:chOff x="1060560" y="1550880"/>
            <a:chExt cx="6949800" cy="4318200"/>
          </a:xfrm>
        </p:grpSpPr>
        <p:sp>
          <p:nvSpPr>
            <p:cNvPr id="70" name="_s8205"/>
            <p:cNvSpPr/>
            <p:nvPr/>
          </p:nvSpPr>
          <p:spPr>
            <a:xfrm>
              <a:off x="3659040" y="2163600"/>
              <a:ext cx="1754280" cy="175608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_s8200"/>
            <p:cNvSpPr/>
            <p:nvPr/>
          </p:nvSpPr>
          <p:spPr>
            <a:xfrm>
              <a:off x="3659040" y="155088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heoret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_s8206"/>
            <p:cNvSpPr/>
            <p:nvPr/>
          </p:nvSpPr>
          <p:spPr>
            <a:xfrm>
              <a:off x="4327560" y="2832120"/>
              <a:ext cx="1754280" cy="175572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_s8202"/>
            <p:cNvSpPr/>
            <p:nvPr/>
          </p:nvSpPr>
          <p:spPr>
            <a:xfrm>
              <a:off x="625644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echn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8207"/>
            <p:cNvSpPr/>
            <p:nvPr/>
          </p:nvSpPr>
          <p:spPr>
            <a:xfrm>
              <a:off x="3659040" y="3500280"/>
              <a:ext cx="1754280" cy="175608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8204"/>
            <p:cNvSpPr/>
            <p:nvPr/>
          </p:nvSpPr>
          <p:spPr>
            <a:xfrm>
              <a:off x="3659040" y="543096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rakt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8208"/>
            <p:cNvSpPr/>
            <p:nvPr/>
          </p:nvSpPr>
          <p:spPr>
            <a:xfrm>
              <a:off x="2990880" y="2832120"/>
              <a:ext cx="1754280" cy="1755720"/>
            </a:xfrm>
            <a:prstGeom prst="ellipse">
              <a:avLst/>
            </a:prstGeom>
            <a:solidFill>
              <a:srgbClr val="01bd0a">
                <a:alpha val="50000"/>
              </a:srgbClr>
            </a:solidFill>
            <a:ln w="936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_s8209"/>
            <p:cNvSpPr/>
            <p:nvPr/>
          </p:nvSpPr>
          <p:spPr>
            <a:xfrm>
              <a:off x="106056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Angewandt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heoretisch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og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gorit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bau von Programmierspra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enzen der Berechenbark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Theoretische I. vermittelt Grundlagen der 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strahiert Probleme, unabhängig von den technischen Gegebenh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t die Mathematik zur Problembeschreib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reibt auch Probleme, die nicht mit dem Computer zu lös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glichst wenig „Annahmen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glichst keine „Ausnahmen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chnisch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nstruktion von Rechnern, Speichern und Prozesso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nstruktion von Peripheriegeräten (Bildschirm, Drucker, Scann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Technische I. ist allgemein für die Hardware zust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erücksichtigt aber auch die Möglichkeiten der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enzt an die Elektrotechn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ktisch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chnologie der Programm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u von Compilern (Übersetzen von Programmcode in Maschinensprach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icklung von Betriebssyst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Praktische I. orientiert sich an der zur Verfügung stehenden Hard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ildet mit ihren Inhalten die Brücke zwischen Hard- und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gewandt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icklung von Software für einzelne Aufgabenstellun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urf von Konzepten zur Planung und Umsetz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ngewandte I. baut auf den Erkenntnissen (mathematische Grundlagen) und Produkten (Hardware und Compiler) der anderen Bereiche au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ildet die Schnittstelle zum Endnutz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eiche der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060560" y="1550880"/>
            <a:ext cx="6949800" cy="4318200"/>
            <a:chOff x="1060560" y="1550880"/>
            <a:chExt cx="6949800" cy="4318200"/>
          </a:xfrm>
        </p:grpSpPr>
        <p:sp>
          <p:nvSpPr>
            <p:cNvPr id="88" name="_s24581"/>
            <p:cNvSpPr/>
            <p:nvPr/>
          </p:nvSpPr>
          <p:spPr>
            <a:xfrm>
              <a:off x="3659040" y="2163600"/>
              <a:ext cx="1754280" cy="175608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_s24582"/>
            <p:cNvSpPr/>
            <p:nvPr/>
          </p:nvSpPr>
          <p:spPr>
            <a:xfrm>
              <a:off x="3659040" y="155088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heoretisch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Grundlage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_s24583"/>
            <p:cNvSpPr/>
            <p:nvPr/>
          </p:nvSpPr>
          <p:spPr>
            <a:xfrm>
              <a:off x="4327560" y="2832120"/>
              <a:ext cx="1754280" cy="175572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_s24584"/>
            <p:cNvSpPr/>
            <p:nvPr/>
          </p:nvSpPr>
          <p:spPr>
            <a:xfrm>
              <a:off x="625644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echnisch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Hardwar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_s24585"/>
            <p:cNvSpPr/>
            <p:nvPr/>
          </p:nvSpPr>
          <p:spPr>
            <a:xfrm>
              <a:off x="3659040" y="3500280"/>
              <a:ext cx="1754280" cy="175608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_s24586"/>
            <p:cNvSpPr/>
            <p:nvPr/>
          </p:nvSpPr>
          <p:spPr>
            <a:xfrm>
              <a:off x="3659040" y="543096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raktisch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Compiler, Betriebssystem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_s24587"/>
            <p:cNvSpPr/>
            <p:nvPr/>
          </p:nvSpPr>
          <p:spPr>
            <a:xfrm>
              <a:off x="2990880" y="2832120"/>
              <a:ext cx="1754280" cy="1755720"/>
            </a:xfrm>
            <a:prstGeom prst="ellipse">
              <a:avLst/>
            </a:prstGeom>
            <a:solidFill>
              <a:srgbClr val="01bd0a">
                <a:alpha val="50000"/>
              </a:srgbClr>
            </a:solidFill>
            <a:ln w="936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_s24588"/>
            <p:cNvSpPr/>
            <p:nvPr/>
          </p:nvSpPr>
          <p:spPr>
            <a:xfrm>
              <a:off x="106056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Angewandt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Softwar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5:19:28Z</dcterms:modified>
  <cp:revision>52</cp:revision>
  <dc:subject/>
  <dc:title>PowerPoint Presentation</dc:title>
</cp:coreProperties>
</file>