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Software III: Internet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CD1B-22AA-4A61-A16A-740F4D4DBF5A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hyperlink" Target="mailto:info@evfh-berlin.de" TargetMode="External"/><Relationship Id="rId3" Type="http://schemas.openxmlformats.org/officeDocument/2006/relationships/hyperlink" Target="ftp://ftp.microsoft.de/" TargetMode="External"/><Relationship Id="rId4" Type="http://schemas.openxmlformats.org/officeDocument/2006/relationships/hyperlink" Target="news:de.sci.medizin.pflege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cis.dfn.de/" TargetMode="External"/><Relationship Id="rId2" Type="http://schemas.openxmlformats.org/officeDocument/2006/relationships/hyperlink" Target="http://www.google.de/" TargetMode="External"/><Relationship Id="rId3" Type="http://schemas.openxmlformats.org/officeDocument/2006/relationships/hyperlink" Target="http://usenet.freenet.de/" TargetMode="External"/><Relationship Id="rId4" Type="http://schemas.openxmlformats.org/officeDocument/2006/relationships/hyperlink" Target="http://usenet.freenet.de/" TargetMode="External"/><Relationship Id="rId5" Type="http://schemas.openxmlformats.org/officeDocument/2006/relationships/hyperlink" Target="http://usenet.freenet.de/" TargetMode="External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Allgeme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eilt sich in folgende funktionale Bereiche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 (= gemeinhin als „Internet“ bezeich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 (= elektronische 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s (= Use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 (= Dateiübertrag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 (z.B. Telnet, Gop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dem technischen Gesichtspunkt handelt es sich dabei um unterschiedliche Protokoll-Eb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iesem Grund bedarf es verschiedener Software-Produkte, um die jeweilige Funktion nutz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20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utzung des Internet basiert au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wei Prinzipi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Informationen werden als Hypertext-Dokumente angeze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ufruf einer Information benötigt man eine gültige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tex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als Datei vorlie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nicht linear aufgebaut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wird durch Hyperlinks erre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mit dem Mauszeiger angeklickt werden k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zu einer anderen Stelle innerhalb des Dokumentes füh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 zu einem anderen Hypertext-Dokument füh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kürzung für „Uniform Resource Locator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URL beschreibt den Ablageort einer Datei (Information, Software, Bild etc.) auf einem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URL ist deshalb einmalig und weltweit gült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evfh-berlin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Internet-Seite der Ev. Fachhochschule Berl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mailto:info@evfh-berli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llgemeine E-Mail-Adresse der EF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ftp://ftp.microsoft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Dateidownload von Microso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Newsgroup Fachbereich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WWW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-Brows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Brows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Hypertext-Dokumen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 aufrufen einer gültigen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896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r E-Mail Protokolle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-Mail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E-Mail-Clients best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Senden von elektronischen Nachrichten (Protokoll SMTP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Empfangen von elektronischen Nachrichten (Protokoll P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P3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MTP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6985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Usenet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wsread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Newsread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Verwaltung der persönlich genutzten Newsgrou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m Anzeigen und der Teilnahme an Diskuss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(z.B. news.cis.dfn.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finden Sie entweder bei Ihrem Provider (T-Online, AOL etc.) oder Sie nutzen den Newsserver der FU-Berlin (kostenlos). Hierfür ist eine Anmeldung unter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news.cis.df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 von Newsgroups ohne Newsrea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googl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&gt; Groups“ o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usenet.freene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7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FTP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TP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FTP-Client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Dateiverzeichni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Möglichkeit des Up- und Downloads vo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orm aFT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FTP = anonymus 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-Adressen, die für den anonymen Zugriff freigegeb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mmer dann genutzt, wenn keine personenbezogene Identifizierung des Nutzers verlang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wnload von Dateien ist in der Regeln in allen Verzeichnissen erlaub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load von Dateien ist nicht erlaubt, oder nur in ein spezielles Verzeich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findet sich in jedem Verzeichnis eine Datei mit der Bezeichnung „index.txt“ oder „readme.txt“, die Erläuterungen zu den einzelnen Dateien ent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3T11:20:32Z</dcterms:modified>
  <cp:revision>68</cp:revision>
  <dc:subject/>
  <dc:title>PowerPoint Presentation</dc:title>
</cp:coreProperties>
</file>