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Software I: Betriebssysteme und Werkze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57C5-A32D-4699-B595-408A5B762BE6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tsit.org/" TargetMode="External"/><Relationship Id="rId2" Type="http://schemas.openxmlformats.org/officeDocument/2006/relationships/hyperlink" Target="http://www.wotsit.org/" TargetMode="External"/><Relationship Id="rId3" Type="http://schemas.openxmlformats.org/officeDocument/2006/relationships/hyperlink" Target="http://www.wotsit.org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eebsd.org/de/" TargetMode="External"/><Relationship Id="rId2" Type="http://schemas.openxmlformats.org/officeDocument/2006/relationships/hyperlink" Target="http://www.freebsd.org/de/" TargetMode="External"/><Relationship Id="rId3" Type="http://schemas.openxmlformats.org/officeDocument/2006/relationships/hyperlink" Target="http://www.freebsd.org/de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te Abkürz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 = 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Betriebs-Software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llgemeine Auf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stellt d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 zwischen Anwendungs-Software und Hardware dar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m es die Geräte und deren Datenein- und Datenausgabe verwal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dem ist das Betriebssystem für die Verwaltung von Dateien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xt = einfaches Text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f = Rich Text Format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ls = Microsoft Excel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pt = Microsoft Powerpoint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db = Microsoft Access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form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mp = Windows Bitmap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f = Graphics Interchang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 = Executable Datei (= ausführbares Progra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aller Dateiend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wotsit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ttrib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besitzen Eigenschaften,die veränder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rt der Eigenschaften sind vom Betriebssystem abhäng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reibschutz (Read-Only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kann die Datei gelesen, nicht jedoch verändert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teckt (Hidden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im Explorer nicht angezeig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chiv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bei der nächsten Systemsicherung auf dem Sicherungsmedium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 spricht vo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organis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ein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hierarchi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probl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des Betriebssystem verwendet mehrere tausend 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zu kommen die Datendateien des Nutz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le Dateien werden in hierarchischer Form geord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s geschieht anhand einer Baumstruktur, die verschiedene Kategorien enthä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aumstruktur wird durch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rzeu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048360" cy="297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92360" y="573408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Ord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421080" y="5229000"/>
            <a:ext cx="792000" cy="43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4941720"/>
            <a:ext cx="165600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einzelne Dat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156360" y="4437000"/>
            <a:ext cx="792000" cy="433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Ordnerhierarch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Ihre Ordner nach Gesichtspunkten, die Ihnen nachvollziehbar erschei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Ordnerhierarchien, die von mehreren Nutzern verwaltet werden (z.B. im Betrieb)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Hierarchien (sprich: die Ordner-Bezeichnungen) müssen für alle Nutzer nachvollziehbar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zeichnungen der Ordner sollten nicht all zu häufig gewechselt werden. Deshalb im Vorau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Ordner bedeutet später einen „Klic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deshalb Ihre Hierarchie möglichst grob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esagte für 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Sond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Le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oberfläche dient der visuellen Darstellung der Datenein- und Daten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gibt den Anwendungsprogrammen vor, welche Art der Benutzeroberfläche verwend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der Benutzeroberflä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oberflä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-Box (eingebürgerter Begriff unter Windows-Betriebssyste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bei handelt es sich um die einfache Form einer Benutzeroberflä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spricht auch von ein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andozeilen-orientierten Benutzeroberflä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erfolgt ausschließlich per Tasta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immte Funktionen stehen ausschließlich in der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Befehl „ipconfig /all“ zum Anzeigen der Adresse des Netzwerk-Adap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auf dem Markt befindlichen Betriebssysteme, stellen eine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 – einiger Komman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mandos (= Befehle) werden im so genannten „Prompt“ eingege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sehen des Prompt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:\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as Kommando teilt der Nutzer dem Betriebssystem mit, welche Aktion erfolgen so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 das Kommando auszuführen, muss die Eingabe-Taste betä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wahl einiger Kommandos in D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verfügbaren Befehle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 /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zeigt einen Hilfetext zum Befehl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Dateien eines Verzeichnisses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l dateiname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ösch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nam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n a.txt 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benenn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d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erstellt einen Ordner mit dem Nam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48000" y="4221000"/>
            <a:ext cx="5184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Grafische 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 = Graphical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der GUI handelt es sich um eine grafische Erweiterung der Sh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per Mauszeiger wird unterstü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weile stellen alle modernen Betriebssysteme eine GUI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UI arbeitet mit der so genannten „Fenstertechni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unterstützt das räumliche Empfinden des Nutz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in jedem Fall sind alle Funktionen über die GUI verfüg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 mit guten Schreibmaschinen-Kenntnissen, können per Shell die Kommandos schneller eing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94560" cy="5356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esktop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2421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Verknüpf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2421000"/>
            <a:ext cx="2016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Desktop-Ober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5373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ask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5084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Pop-Up-Menü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763280" y="191592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059280" y="4581360"/>
            <a:ext cx="79200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84360" y="573264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765840" cy="5280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Programm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186516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Menü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91764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ite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5760" y="13795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ymbo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599616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tatus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357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Arbeitspl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95640" y="106524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6920" y="1314360"/>
            <a:ext cx="79236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9080" y="148428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42920" y="6153120"/>
            <a:ext cx="100836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ufig verwendete Betriebssysteme (Auswah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zelplatz-Betriebs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95, 98, ME,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betriebssysteme (mit Server-Funktione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NT 4.0 Server, 2000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 X Server (Macint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ell Ne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/2 (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yan V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ialog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9080" y="1547640"/>
            <a:ext cx="633564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Kontextmen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eichbar durch Klick auf die rechte Maustas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etet zugelassene Funktionen an, die im Kontext sinnvoll und erlaubt si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3815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Meldungs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113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ask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higkeit eines Betriebssystems, mehrere Anwendungen gleichzeitig auszuführen. (z.B. mit Textverarbeitung, Tabellenkalkulation und E-Mail-Programm gleichzeitig arbeit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weis: Unter MS-DOS war dies noch nicht mög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hread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Multitasking sehr ähnlich. Multithreading bezieht sich jedoch auf die Fähigkei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eöffneten Anwendung, mehrere Aufgaben auszuführen (z.B. mit dem Internet-Browser im Internet surfen und gleichzeitig (mit dem Internet-Browser) eine Datei downloa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userfäh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multiuserfähig bezeichnet man Betriebssysteme, die von mehreren Personen (= User) gleichzeitig benutz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process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Mehrfachverarbeitung genannt. Bezeichnet die gleichzeitige Verarbeitung von mehreren Programmen oder Prozessen bei gleichzeitiger Nutzung mehrerer Prozess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t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Betriebssystems, nachdem der Rechner ausgeschaltet gewes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m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start des Betriebssystems, ohne dass der Rechner ausgeschalte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YSIWYG = What You See Is What You G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et eine Darstellungsform der Inhalte auf dem Bildschirm, die derjenigen der Ausgabe per Drucker entsprich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Was ich auf dem Bildschirm sehe, erhalte ich auch als Resultat nach dem Drucken des Dokumentes auf Pap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ag-and-Drop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en Datenaustausch zwischen verschiedenen Anwendungen (oder innerhalb einer Anwendung) durch „Ziehen und Fallenlassen“ mit Hilfe des Mauszei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eckliste: Lerninhalte Betrieb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vigation im Betrieb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en eines Progra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Maus (insbesondere Kontextmenü per rechter Mausta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chne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chi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und Ord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bene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Hilfe-Fun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definierte Einstellungen vo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-Kurzbefehle (= Short-Cu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ahlkriterien für die 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Anwendungs-Soft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vorhandene Hard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funktionalität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basierte Rechtevergabe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führung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fallsicherheit: Hohe Stabilität des Betriebssystems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per grafischer Oberfläche sinnvol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fak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date-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ienst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sind Werkzeuge, die das Betriebssystem in seinen Funktionen unterstützen, z.B. bei 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diagnose und -korrektur (z. B. Scan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Einstellungen des Betriebssystems (z. B. 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trägerverwaltung (z. B. Defragmenti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sicherung, -sicherheit (z. B. Systemwiederherstell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genständige Programme. Um ein Dienstprogramm nutzen zu können, muss das Programm gezielt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muss (vorher) wissen, dass das Dienstprogramm vorha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 Funktion das Dienstprogramm erfü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n Nutzen er aus dieser Funktion zieh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Weiterentwicklung eines Betriebssystems, werden immer mehr Dienstprogramme integriert (z. B. Dateikomprimierung: bisher nur von Fremdanbietern zu beziehen – heute in Windows XP bereits integr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Verfügbark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Verfügbar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Betriebssystem enthaltene Dienstprogramme (in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jedem Betriebssystem werden i.d.R. mehrere Werkzeuge mitgelief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Version (z. B. Windows 98, 2000, XP) liefert der Hersteller unterschiedliche Dienstprogramme mit aus, d. h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ventuell steht Ihnen mit Ihrem neuen Windows</a:t>
            </a:r>
            <a:br>
              <a:rPr sz="1600"/>
            </a:b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ine vorher verfügbare Funktion nicht mehr zur Verfüg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des Betriebssystem-Herstellers, die optional erhältlich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. d. R. Wartungswerkzeuge (z. B. Microsoft-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von Fremdanbietern (ex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Fremdanbietern, die als eigenständige Software verkauft werden (z.B. Norton Gho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Hardware-Anbietern (z.B. Analysetools des Festplatten-Herstelle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rkunft der Betrieb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einer Eigenentwicklung von Bill Gates und ist der Nachfolger von MS-DO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änglich von der Telefongesellschaft „Bell Telephone Laboratories“ entwickelt, später von verschiedenen Universitäten weiterentwickelt. Mittlerweile sehr viele Abkömmlinge (kommerziell und nicht kommerziell, z.B. FreeBSD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freebsd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der Weiterentwicklung des Betriebssystems Unix in Eigeninitiative von Linus Torvalds. Ziel: Kostenfreies Betriebssystem mit Offenlegung des Quellcode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, OS/2, Unix-Abkömmlin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en auf Entwicklungen von Hardware-Herstell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Star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Star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kann mit Hilfe der Grafischen Benutzeroberfläche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per Kommando in der Eingabeaufforderung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von einer bootfähigen Diskette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Variante wird immer dann gewählt, wenn ausgeschlossen werden soll, dass Dateien des Betriebssystems aktuell in Benutzung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ragmenti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„Aufräumen der Festplatte“. Ordnet Dateifragmente wieder nebeneinander an, so dass schneller darauf zugegriffen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Defragment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defrag /?“ – zeigt die Optionen der Funktion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träger-Prüf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Prüft den Datenträger (Festplatte oder Diskette) auf Fehler (gilt sowohl für mechanische als auch für Fehler, die aufgrund fehlerhafter Speicherung durch die Software zustande gekommen i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ca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chkdsk /?“ – unter Windows NT, 2000 un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alle wichtigen Systemdateien des Betriebssystems wieder 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szweck: Ausfall oder Störung des Betriebs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sfc /?“ – zeigt die Optionen der Funktion an. (nur unter Windows 2000 und X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verloren gegangene Dateien wieder her, mit dem Stand der letzten Datens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icherung bzw. Ba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verwendet unter Wind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wiederherstellung (Backup) von Microso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nächst wird eine Vollsicherung des Datenträgers erstellt (sprich: alle Dateien werden auf einen zweiten Datenträger kopier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nur noch diejenigen Daten gesichert, die vom Zeitpunkt der ersten Sicherung an veränder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Dauer der Sicherung bis zu mehreren St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s Dienstprogramm „Norton Ghost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Syman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: ca. 40 bis 50 Euro pro Lizenz (Rechn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ird eine Vollsicherung einer Partition oder Festplatte an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uer der Sicherung 5 bis 10 Minu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einfache Bedienung (nach erster Ein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Folgen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die Praxis aussie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r langen Dauer der Systemsicherung, wird häufig auf eine Datensicherung verz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s hohen Speicherbedarfs müssen Zusatzgeräte angeschafft werden (Bandlaufwerke), die wiederum mit hohen Kosten verbund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age-Werkzeuge wie „Norton Ghost“ oder „Drive Image“ sind nicht bekannt, oder ihre Funktionsweise wird unterschätz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glaubt, es handele sich dabei „einfach nur“ um ein weiteres Backup-Werkzeu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Der Nutzer denkt, er besäße bereits ein solches (sprich: die Systemwiederherstellung von Window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Er schenkt der neuen technischen Möglichkeit keine weitere Beach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Systemausfall, Datenverlust, unnötige Ko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können u. U. Kosten durch Servicetechniker (enorm) eindämmen. Deshalb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hmen Sie beim Lesen einschlägiger Literatur diese Tools bewusst wa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Was kann das Werkzeug? Und was kann es nicht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Bringt mir diese Funktion eine wesentlich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erleicht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it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Dienstprogramm ist sinnv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p.: Eventuell ist die Funktion eines kommerziellen Dienstprogramms in einer anderen Software bereits im Rahmen eines Werkzeug-Paketes einge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gilt: Vergleichen Sie vor dem Kauf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 den Lernaufwand (insbesondere dann, wenn die Software von vielen Mitarbeitern bedient wird.), denn Lernaufwand = Kostenfak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Werkzeug-Einsatz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tergrund: Bestimmte Werkzeuge (z.B. Defragmentierung) müssen regelmäßig angewendet werden, um effektiv zu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Innerbetrieblich sollte eine Checkliste geführt werden, welche Aufgab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zw. wie häufig)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 w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 welchem Rech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 erledig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Hardware (Geräteverwaltung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en Zugriff auf Endgeräte (z.B. Festplatte, Modem, Soundkarte, Grafikkar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reiber ermöglichen damit eine geordnete Abfolge der Ein- und Ausgabe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and Play-Funktion: Das Betriebssystem erkennt automatisch neu hinzugefügte Geräte und bindet diese in das System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s Arbeitsspeich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verteilt den vorhandenen Speicherplatz an alle Anwendungen (= Anwendungs-Software), die aktuell geöffnet sind (d.h. benutzt werd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verwaltet die Dateien auf dem Datenträger. Es gewährleistet einen fehlerfreien Zugriff und eine fehlerfreie Ablage der Dat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ßerdem verwaltet es die Ablagehierarchie (Ordnerhierarchie) in Form einer Baumstruk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und Nutzung der Anwendungs-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ie Nutzung von Programmen und deren Funktionalität (z.B. Textverarbeitung, Tabellenkalkulati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kontrolliert den Start und die Beendigung der 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reagiert (teilweise) auf Fehler innerhalb eines Program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stellt Dienstprogramme zur Verfügung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ragmentierung (Neuanordnung von Dateifragmenten auf dem Rech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wachungsprogramme, z.B. zur Beobachtung der Prozessorauslas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kollierung ausgewählter Arbeitsabläufe, um die Behebung von Fehlern zu erleichtern (Hinweis: in der Regel nicht bei Betriebssystemen für Heimanwender vorhanden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e Aufgaben eines Netzwerk-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verwaltung wird im Zusammenhang mit der Rechte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rmöglicht eine gezielte Freigabe bestimmter Funktionen, für bestimmte 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Programme ausführ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ein Programm installi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te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wird im Zusammenhang mit der Benutzer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ermöglicht eine gezielte Steuerung der Nutzungsrechte auf Dateieb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bestimmte Dateien zwar anseh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Änderungen an der Datei vo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llgemeines +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i ist eine Ansammlung zusammen gehörender Daten, die mit einem Anwendungsprogramm erstellt und auf einem Datenträger gespeich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triebssystem oder Anwendungsprogramm basiert auf einer oder mehrere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ennzeichnet eine Datei durch einen Dateinamen. Der Dateiname besteht dabei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nkt als Trenn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(i.d.R. 3 bis 4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papier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 = Arbeits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= 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Namensge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erzeichen im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Trennen Sie mit Bindestrich oder Unterst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zeichen im Dateinamen (z.B. %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lange Dateinamen (größer 100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Si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agekräftige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: dipmu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diplomarbeit_mueller_2002_10_01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ennen Sie inhaltlich unterschiedliche Namensbestandteile durch einen Trennze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erleichtert die Lesbar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ausführbare Anwendungs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den meist mit der Dateiendung „.ex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Daten, die mit einem Anwendungsprogramm erzeu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iendung weist vielfach auf das damit verbundene Anwendungsprogramm (z.B. Word) bzw. den Typ des Anwendungsprogrammes (z.B. Textverarbeitung) h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2-01T23:13:14Z</dcterms:modified>
  <cp:revision>112</cp:revision>
  <dc:subject/>
  <dc:title>PowerPoint Presentation</dc:title>
</cp:coreProperties>
</file>