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371988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-360" y="333000"/>
            <a:ext cx="86756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flipH="1" flipV="1" rot="16200000">
            <a:off x="4211640" y="2240640"/>
            <a:ext cx="468000" cy="8893080"/>
          </a:xfrm>
          <a:prstGeom prst="rect">
            <a:avLst/>
          </a:prstGeom>
          <a:solidFill>
            <a:srgbClr val="fff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84000" y="6501960"/>
            <a:ext cx="489564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16. Rechtliche Grundlag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8505720" y="0"/>
            <a:ext cx="638280" cy="35244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888400" y="333360"/>
            <a:ext cx="255600" cy="6524640"/>
          </a:xfrm>
          <a:prstGeom prst="rect">
            <a:avLst/>
          </a:prstGeom>
          <a:solidFill>
            <a:srgbClr val="000e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32880" y="347760"/>
            <a:ext cx="158760" cy="6524640"/>
          </a:xfrm>
          <a:prstGeom prst="rect">
            <a:avLst/>
          </a:prstGeom>
          <a:solidFill>
            <a:srgbClr val="fff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690040" y="254160"/>
            <a:ext cx="50760" cy="618948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-9360" y="0"/>
            <a:ext cx="50760" cy="688500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-558720" y="6443640"/>
            <a:ext cx="1116000" cy="412920"/>
          </a:xfrm>
          <a:prstGeom prst="ellipse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69840" y="6524640"/>
            <a:ext cx="54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8BBB7-8DDC-415F-A181-908E67B2ECA1}" type="slidenum">
              <a:rPr b="1" lang="de-DE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4341600" y="2064960"/>
            <a:ext cx="50760" cy="873432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rot="16200000">
            <a:off x="4317840" y="-4388040"/>
            <a:ext cx="71640" cy="878040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6159600" y="6458040"/>
            <a:ext cx="2665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Andreas Heil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Evangelische Fachhochschule Berl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rot="16200000">
            <a:off x="4347360" y="-3439440"/>
            <a:ext cx="17640" cy="8712360"/>
          </a:xfrm>
          <a:prstGeom prst="rect">
            <a:avLst/>
          </a:prstGeom>
          <a:gradFill rotWithShape="0">
            <a:gsLst>
              <a:gs pos="0">
                <a:srgbClr val="d00f04"/>
              </a:gs>
              <a:gs pos="50000">
                <a:srgbClr val="ffffff"/>
              </a:gs>
              <a:gs pos="100000">
                <a:srgbClr val="d00f0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Rechtliche Grundlag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ndreas Heil</cp:lastModifiedBy>
  <dcterms:modified xsi:type="dcterms:W3CDTF">2002-10-20T17:35:36Z</dcterms:modified>
  <cp:revision>68</cp:revision>
  <dc:subject/>
  <dc:title>PowerPoint Presentation</dc:title>
</cp:coreProperties>
</file>