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2. Informations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A4D-07C8-4D7E-B420-4877B16058E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lösung in der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arf eines Vertrauensverhältnisses zwischen Leitung und Mitarbeitern im Betri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arbeiter darf keine Angst haben, etwas nicht zu könn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 müssen erkannt und erfass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fehler -&gt; eventl. Verbesserung der Bediener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-Fehler -&gt; eventl. Bug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dernfalls bleiben die Fehler besteh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2-10-20T18:49:40Z</dcterms:modified>
  <cp:revision>66</cp:revision>
  <dc:subject/>
  <dc:title>PowerPoint Presentation</dc:title>
</cp:coreProperties>
</file>