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4. Software-Entwicklung I: Mod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81EF-A273-4BCE-8B67-8B084283A022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-Entwicklung: 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sitionierung der/des Diplom-Pflegewirt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 befindet sich die Pflegefachkraft im Modellierungsproz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ussdiagr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8:46:12Z</dcterms:modified>
  <cp:revision>69</cp:revision>
  <dc:subject/>
  <dc:title>PowerPoint Presentation</dc:title>
</cp:coreProperties>
</file>