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4. Software-Entwicklung I: Mod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ED9E-582A-46EC-A2A8-A0DE4586ACF4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-Entwicklung: Mode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ositionierung der/des Diplom-Pflegewirt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o befindet sich die Pflegefachkraft im Modellierungsprozes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lussdiagram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0-20T18:46:12Z</dcterms:modified>
  <cp:revision>69</cp:revision>
  <dc:subject/>
  <dc:title>PowerPoint Presentation</dc:title>
</cp:coreProperties>
</file>