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19.png" ContentType="image/png"/>
  <Override PartName="/ppt/media/image18.wmf" ContentType="image/x-wmf"/>
  <Override PartName="/ppt/media/image14.wmf" ContentType="image/x-wmf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.jpeg" ContentType="image/jpeg"/>
  <Override PartName="/ppt/media/image7.png" ContentType="image/png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. Pflegeinformatik: Einordnung und Grundla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7F37A-07D5-47CE-B375-0F35B42E2AC3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16.wmf"/><Relationship Id="rId8" Type="http://schemas.openxmlformats.org/officeDocument/2006/relationships/image" Target="../media/image17.wmf"/><Relationship Id="rId9" Type="http://schemas.openxmlformats.org/officeDocument/2006/relationships/image" Target="../media/image18.wmf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top500.org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ckpunkte der Informatik-Geschich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s 1960: Informatik als Teil der Wissenschaftsdisziplinen Logik, Mathematik, Elektrotechnik u.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rmatik seit 1960 eigenständige Wissenscha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ige Eckpunk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450 v. Chr.: Verwendung des Abak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774: Mechanische Rechenmas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37: Z1 (Hersteller Conrad Zus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81: Der erste Personal Computer (Hersteller IB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82: Commodore 6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84: Apple Macinto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86: Commodore Ami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90: Breite Nutzung des 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irtschafts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in Anwendungsgebiet der Informati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in eigenständiger wissenschaftlicher Fachbere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Wirtschaftsinformatik beschäftigt sich m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Konzeptio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Entwicklung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Einführung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Nutz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d der Wartung von rechnergestützten betriebliche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formationssystem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ommunikationssystem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zieht sich allgemein auf Wirtschaftsbetriebe und Verwalt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satzfrage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kann ich die betrieblichen Aufgaben bzw. Abläufe mit Hilfe der Informationstechnologie verbesser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flege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72400" cy="33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in Anwendungsgebiet der Informati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in Spezialgebiet der Wirtschaftsinformati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t teilweise das Wissen der Medizin-Informati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in Deutschland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och kei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eigenständiger wissenschaftlicher Fachberei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Pflegeinformatik beschäftigt sich m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gabenzentrierte Anwend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ormationssyste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xpertensyste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-Heal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satzfrage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kann ich die Aufgaben bzw. Abläufe der Pflege mit Hilfe der Informationstechnologie verbesser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finition Pflege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846080"/>
            <a:ext cx="7772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Pflegeinformatik ist eine Kombination aus Informatik als Grundlagenwissenschaft, Informatik als angewandte Wissenschaft und aus Pflegewissenschaft.</a:t>
            </a:r>
            <a:br>
              <a:rPr sz="2000"/>
            </a:br>
            <a:br>
              <a:rPr sz="2000"/>
            </a:b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ie unterstützt das Managen und Verarbeiten von Pflegedaten, Informationen und Wissen, um die pflegerische Praxis effektiv gestalten zu können.“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Graves und Corcoran 1989,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 Hannah et al. 2002, S. 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238560" y="519120"/>
            <a:ext cx="360036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0" spc="-1" strike="noStrike">
                <a:solidFill>
                  <a:srgbClr val="eaeaea"/>
                </a:solidFill>
                <a:latin typeface="Arial"/>
              </a:rPr>
              <a:t>?</a:t>
            </a:r>
            <a:endParaRPr b="0" lang="en-US" sz="4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ordnung der Pflege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722840" y="3681360"/>
            <a:ext cx="3809520" cy="2325600"/>
            <a:chOff x="4722840" y="3681360"/>
            <a:chExt cx="3809520" cy="2325600"/>
          </a:xfrm>
        </p:grpSpPr>
        <p:cxnSp>
          <p:nvCxnSpPr>
            <p:cNvPr id="105" name="_s20511"/>
            <p:cNvCxnSpPr>
              <a:stCxn id="106" idx="1"/>
              <a:endCxn id="107" idx="2"/>
            </p:cNvCxnSpPr>
            <p:nvPr/>
          </p:nvCxnSpPr>
          <p:spPr>
            <a:xfrm rot="10800000">
              <a:off x="5614200" y="4085280"/>
              <a:ext cx="333360" cy="1716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20509"/>
            <p:cNvCxnSpPr>
              <a:stCxn id="109" idx="1"/>
              <a:endCxn id="107" idx="2"/>
            </p:cNvCxnSpPr>
            <p:nvPr/>
          </p:nvCxnSpPr>
          <p:spPr>
            <a:xfrm rot="10800000">
              <a:off x="5614200" y="4085280"/>
              <a:ext cx="333360" cy="1076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0" name="_s20504"/>
            <p:cNvCxnSpPr>
              <a:stCxn id="111" idx="1"/>
              <a:endCxn id="107" idx="2"/>
            </p:cNvCxnSpPr>
            <p:nvPr/>
          </p:nvCxnSpPr>
          <p:spPr>
            <a:xfrm rot="10800000">
              <a:off x="5614200" y="4085280"/>
              <a:ext cx="333360" cy="435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7" name="_s20500"/>
            <p:cNvSpPr/>
            <p:nvPr/>
          </p:nvSpPr>
          <p:spPr>
            <a:xfrm>
              <a:off x="4722840" y="3681360"/>
              <a:ext cx="1784520" cy="4046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640" rIns="8964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_s20501"/>
            <p:cNvSpPr/>
            <p:nvPr/>
          </p:nvSpPr>
          <p:spPr>
            <a:xfrm>
              <a:off x="5947920" y="4314960"/>
              <a:ext cx="2584440" cy="411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640" rIns="8964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Wirtschafts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_s20508"/>
            <p:cNvSpPr/>
            <p:nvPr/>
          </p:nvSpPr>
          <p:spPr>
            <a:xfrm>
              <a:off x="5947920" y="4955760"/>
              <a:ext cx="2584440" cy="411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Medizinische 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_s20510"/>
            <p:cNvSpPr/>
            <p:nvPr/>
          </p:nvSpPr>
          <p:spPr>
            <a:xfrm>
              <a:off x="5947920" y="5595840"/>
              <a:ext cx="2584440" cy="411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Pflege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83760" y="1657080"/>
            <a:ext cx="3693600" cy="3233160"/>
            <a:chOff x="383760" y="1657080"/>
            <a:chExt cx="3693600" cy="3233160"/>
          </a:xfrm>
        </p:grpSpPr>
        <p:sp>
          <p:nvSpPr>
            <p:cNvPr id="113" name="_s20515"/>
            <p:cNvSpPr/>
            <p:nvPr/>
          </p:nvSpPr>
          <p:spPr>
            <a:xfrm>
              <a:off x="383760" y="2120040"/>
              <a:ext cx="2768040" cy="2770200"/>
            </a:xfrm>
            <a:prstGeom prst="donut">
              <a:avLst>
                <a:gd name="adj" fmla="val 125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_s20516"/>
            <p:cNvSpPr/>
            <p:nvPr/>
          </p:nvSpPr>
          <p:spPr>
            <a:xfrm>
              <a:off x="3522960" y="2765880"/>
              <a:ext cx="554400" cy="36936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_s20517"/>
            <p:cNvSpPr/>
            <p:nvPr/>
          </p:nvSpPr>
          <p:spPr>
            <a:xfrm>
              <a:off x="730440" y="2466720"/>
              <a:ext cx="2076480" cy="2077560"/>
            </a:xfrm>
            <a:prstGeom prst="donut">
              <a:avLst>
                <a:gd name="adj" fmla="val 1666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_s20518"/>
            <p:cNvSpPr/>
            <p:nvPr/>
          </p:nvSpPr>
          <p:spPr>
            <a:xfrm>
              <a:off x="3522960" y="2396160"/>
              <a:ext cx="554400" cy="36936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Wirtschaftsinformati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_s20519"/>
            <p:cNvSpPr/>
            <p:nvPr/>
          </p:nvSpPr>
          <p:spPr>
            <a:xfrm>
              <a:off x="1076040" y="2812320"/>
              <a:ext cx="1384200" cy="1384920"/>
            </a:xfrm>
            <a:prstGeom prst="donut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_s20520"/>
            <p:cNvSpPr/>
            <p:nvPr/>
          </p:nvSpPr>
          <p:spPr>
            <a:xfrm>
              <a:off x="3522960" y="2026440"/>
              <a:ext cx="554400" cy="36936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Medizininformati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_s20521"/>
            <p:cNvSpPr/>
            <p:nvPr/>
          </p:nvSpPr>
          <p:spPr>
            <a:xfrm>
              <a:off x="1422720" y="3159360"/>
              <a:ext cx="691920" cy="69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_s20522"/>
            <p:cNvSpPr/>
            <p:nvPr/>
          </p:nvSpPr>
          <p:spPr>
            <a:xfrm>
              <a:off x="3522960" y="1657080"/>
              <a:ext cx="554400" cy="36936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Times New Roman"/>
                </a:rPr>
                <a:t>Pflegeinformati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250920" y="1197000"/>
            <a:ext cx="36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flegeinformatik als Spezialitä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56240" y="2852640"/>
            <a:ext cx="448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flegeinformatik als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igenständige Diszipl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0" y="907920"/>
            <a:ext cx="8675640" cy="554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formation &amp; Da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2879640" cy="4967640"/>
          </a:xfrm>
          <a:prstGeom prst="rect">
            <a:avLst/>
          </a:prstGeom>
          <a:noFill/>
          <a:ln w="22320">
            <a:solidFill>
              <a:srgbClr val="0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formationen sin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nsch: Bilder und Begrif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mputer: Zuständen „Ein“ und „Aus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n Prozess der Rückgewinnung von Daten in „verständliche“ Information nennt man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bstraktio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formationen können gespeichert werden (Mensch und Computer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652720" y="1125000"/>
            <a:ext cx="2879640" cy="4967640"/>
          </a:xfrm>
          <a:prstGeom prst="rect">
            <a:avLst/>
          </a:prstGeom>
          <a:noFill/>
          <a:ln w="22320">
            <a:solidFill>
              <a:srgbClr val="0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en sind verschlüsselte Information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erden als Signal abgebildet (=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Repräsentatio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nd kopier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shalb leicht zu siche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cht auswert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cht zu korrigie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meidung von Redundanzen mögl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nötigen Rechner zur Nutz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nd leichter manipulierbar (im negativen Sin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09800" y="3284640"/>
            <a:ext cx="1513080" cy="36828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92760" y="3284640"/>
            <a:ext cx="1512720" cy="36828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27" idx="0"/>
            <a:endCxn id="128" idx="0"/>
          </p:cNvCxnSpPr>
          <p:nvPr/>
        </p:nvCxnSpPr>
        <p:spPr>
          <a:xfrm flipH="1" rot="16200000">
            <a:off x="4607640" y="2232720"/>
            <a:ext cx="2160" cy="2083320"/>
          </a:xfrm>
          <a:prstGeom prst="bentConnector3">
            <a:avLst>
              <a:gd name="adj1" fmla="val -13700000"/>
            </a:avLst>
          </a:prstGeom>
          <a:ln w="316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30" name=""/>
          <p:cNvCxnSpPr>
            <a:stCxn id="128" idx="2"/>
            <a:endCxn id="127" idx="2"/>
          </p:cNvCxnSpPr>
          <p:nvPr/>
        </p:nvCxnSpPr>
        <p:spPr>
          <a:xfrm rot="5400000">
            <a:off x="4606920" y="2643840"/>
            <a:ext cx="2160" cy="2083320"/>
          </a:xfrm>
          <a:prstGeom prst="bentConnector3">
            <a:avLst>
              <a:gd name="adj1" fmla="val 13700000"/>
            </a:avLst>
          </a:prstGeom>
          <a:ln w="316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31" name=""/>
          <p:cNvSpPr/>
          <p:nvPr/>
        </p:nvSpPr>
        <p:spPr>
          <a:xfrm>
            <a:off x="3635280" y="2660760"/>
            <a:ext cx="1944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prä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35280" y="3943440"/>
            <a:ext cx="1944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strak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EVA-Prinzip (Mensch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492360" y="1125360"/>
            <a:ext cx="2116440" cy="18338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851280" y="3716280"/>
            <a:ext cx="1079640" cy="903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7236000" y="4076640"/>
            <a:ext cx="1079280" cy="6350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6062760" y="3141720"/>
            <a:ext cx="957240" cy="1079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6227640" y="4724280"/>
            <a:ext cx="1079640" cy="630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Zum Downloaden klicken"/>
          <p:cNvPicPr/>
          <p:nvPr/>
        </p:nvPicPr>
        <p:blipFill>
          <a:blip r:embed="rId6"/>
          <a:stretch/>
        </p:blipFill>
        <p:spPr>
          <a:xfrm>
            <a:off x="468360" y="314496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Zum Downloaden klicken"/>
          <p:cNvPicPr/>
          <p:nvPr/>
        </p:nvPicPr>
        <p:blipFill>
          <a:blip r:embed="rId7"/>
          <a:stretch/>
        </p:blipFill>
        <p:spPr>
          <a:xfrm>
            <a:off x="1260360" y="422604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Zum Downloaden klicken"/>
          <p:cNvPicPr/>
          <p:nvPr/>
        </p:nvPicPr>
        <p:blipFill>
          <a:blip r:embed="rId8"/>
          <a:stretch/>
        </p:blipFill>
        <p:spPr>
          <a:xfrm>
            <a:off x="1692360" y="307332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79280" y="2708280"/>
            <a:ext cx="3024360" cy="302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08720" y="2708280"/>
            <a:ext cx="3024000" cy="302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14880" y="4149720"/>
            <a:ext cx="4316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03640" y="41497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219852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formationsaufnah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24360" y="219852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formationsausga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21120" y="299088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formations-verarbeit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EVA-Prinzip (Compute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419640" y="1200240"/>
            <a:ext cx="1793880" cy="15080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963720" y="5033880"/>
            <a:ext cx="1496880" cy="4399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1547640" y="2793960"/>
            <a:ext cx="1079640" cy="12114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7164360" y="2924280"/>
            <a:ext cx="1079640" cy="12697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6659640" y="4508640"/>
            <a:ext cx="1079280" cy="9842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468360" y="3933720"/>
            <a:ext cx="1079280" cy="1008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7"/>
          <a:stretch/>
        </p:blipFill>
        <p:spPr>
          <a:xfrm>
            <a:off x="539640" y="3132000"/>
            <a:ext cx="1079640" cy="728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8"/>
          <a:stretch/>
        </p:blipFill>
        <p:spPr>
          <a:xfrm>
            <a:off x="5867280" y="3500280"/>
            <a:ext cx="1079640" cy="7891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9"/>
          <a:stretch/>
        </p:blipFill>
        <p:spPr>
          <a:xfrm>
            <a:off x="2052720" y="3884760"/>
            <a:ext cx="1079280" cy="10569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Zum Downloaden klicken"/>
          <p:cNvPicPr/>
          <p:nvPr/>
        </p:nvPicPr>
        <p:blipFill>
          <a:blip r:embed="rId10"/>
          <a:stretch/>
        </p:blipFill>
        <p:spPr>
          <a:xfrm>
            <a:off x="3708360" y="370044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79280" y="2708280"/>
            <a:ext cx="3024360" cy="302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508720" y="2708280"/>
            <a:ext cx="3024000" cy="302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14880" y="4149720"/>
            <a:ext cx="4316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003640" y="41497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5280" y="219852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Daten)Einga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51640" y="219852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Daten)Ausga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21120" y="299088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Daten)Verarbeit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für die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iele für die Pfleg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nnen lernen der IT-Möglichkei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nnen lernen der IT-Grenz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nnen lernen rechtlicher Grenz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nnen lernen menschlicher Grenz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schätzen der Kosten bzw. Kostenverhältnisse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Wie viel kostet welche Lösung?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47960" y="1125000"/>
            <a:ext cx="38098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fahren in der Praxi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Überschätzen der Leistungsfähigkeit von IT-System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Überschätzen der EDV-Kenntnisse der Mitarbeit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schätzen des Planungs- und Umsetzungsaufwandes bei der Einführung neuer Syste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schätzen des Wartungsaufwand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terschätzen der Datensicherung und der Datensicherhe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d heut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Bezug auf die Rechenleist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66 % der Bevölkerung (14 – 64 Jahre) besitzen einen PC im Hausha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st alle klein und mittelständischen Betriebe nutzen mindestens einen P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. 80 % dieser Betriebe betreiben ein eigenständiges Netzwe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percomputer NEC Earth-Simulator (5120 Prozessoren)</a:t>
            </a:r>
            <a:br>
              <a:rPr sz="1600"/>
            </a:b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top500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Bezug auf das Interne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napp 50 % der Bevölkerung nutzt das Inter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70 % der Betriebe nutzen das Inter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Über 60 % nutzen E-Mail als Kommunikationsmedi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Bezug auf Softwa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95 % der Betriebe setzen Standard-Software 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60 % setzen kaufmännische Software 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60 % setzen Datenbanken 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andteile der 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297160" y="1238400"/>
            <a:ext cx="4478400" cy="4316400"/>
            <a:chOff x="2297160" y="1238400"/>
            <a:chExt cx="4478400" cy="4316400"/>
          </a:xfrm>
        </p:grpSpPr>
        <p:sp>
          <p:nvSpPr>
            <p:cNvPr id="57" name="_s45074"/>
            <p:cNvSpPr/>
            <p:nvPr/>
          </p:nvSpPr>
          <p:spPr>
            <a:xfrm flipH="1" flipV="1">
              <a:off x="3430080" y="3203640"/>
              <a:ext cx="55260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_s45073"/>
            <p:cNvSpPr/>
            <p:nvPr/>
          </p:nvSpPr>
          <p:spPr>
            <a:xfrm>
              <a:off x="2297160" y="2443320"/>
              <a:ext cx="1162080" cy="1161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Probleme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im Betrie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_s45072"/>
            <p:cNvSpPr/>
            <p:nvPr/>
          </p:nvSpPr>
          <p:spPr>
            <a:xfrm flipH="1">
              <a:off x="3852720" y="4032360"/>
              <a:ext cx="341280" cy="47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_s45071"/>
            <p:cNvSpPr/>
            <p:nvPr/>
          </p:nvSpPr>
          <p:spPr>
            <a:xfrm>
              <a:off x="2930400" y="4392720"/>
              <a:ext cx="1162080" cy="1162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Daten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(Informatio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_s45070"/>
            <p:cNvSpPr/>
            <p:nvPr/>
          </p:nvSpPr>
          <p:spPr>
            <a:xfrm>
              <a:off x="4876920" y="4032360"/>
              <a:ext cx="342720" cy="47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_s45069"/>
            <p:cNvSpPr/>
            <p:nvPr/>
          </p:nvSpPr>
          <p:spPr>
            <a:xfrm>
              <a:off x="4979880" y="4392720"/>
              <a:ext cx="1162080" cy="1162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Programme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(Softwar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_s45068"/>
            <p:cNvSpPr/>
            <p:nvPr/>
          </p:nvSpPr>
          <p:spPr>
            <a:xfrm flipV="1">
              <a:off x="5087880" y="3203640"/>
              <a:ext cx="55404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_s45067"/>
            <p:cNvSpPr/>
            <p:nvPr/>
          </p:nvSpPr>
          <p:spPr>
            <a:xfrm>
              <a:off x="5613480" y="2443320"/>
              <a:ext cx="1162080" cy="1161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Maschine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(Hardwar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_s45066"/>
            <p:cNvSpPr/>
            <p:nvPr/>
          </p:nvSpPr>
          <p:spPr>
            <a:xfrm flipV="1">
              <a:off x="4535640" y="2400480"/>
              <a:ext cx="0" cy="58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_s45065"/>
            <p:cNvSpPr/>
            <p:nvPr/>
          </p:nvSpPr>
          <p:spPr>
            <a:xfrm>
              <a:off x="3954600" y="1238400"/>
              <a:ext cx="1162080" cy="1162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Mens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_s45064"/>
            <p:cNvSpPr/>
            <p:nvPr/>
          </p:nvSpPr>
          <p:spPr>
            <a:xfrm>
              <a:off x="3954600" y="2982960"/>
              <a:ext cx="1162080" cy="116208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reiche der Informatik (Kerninformatik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060560" y="1550880"/>
            <a:ext cx="6949800" cy="4318200"/>
            <a:chOff x="1060560" y="1550880"/>
            <a:chExt cx="6949800" cy="4318200"/>
          </a:xfrm>
        </p:grpSpPr>
        <p:sp>
          <p:nvSpPr>
            <p:cNvPr id="70" name="_s8205"/>
            <p:cNvSpPr/>
            <p:nvPr/>
          </p:nvSpPr>
          <p:spPr>
            <a:xfrm>
              <a:off x="3659040" y="2163600"/>
              <a:ext cx="1754280" cy="1756080"/>
            </a:xfrm>
            <a:prstGeom prst="ellipse">
              <a:avLst/>
            </a:prstGeom>
            <a:solidFill>
              <a:srgbClr val="0399ff">
                <a:alpha val="50000"/>
              </a:srgbClr>
            </a:solidFill>
            <a:ln w="936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_s8200"/>
            <p:cNvSpPr/>
            <p:nvPr/>
          </p:nvSpPr>
          <p:spPr>
            <a:xfrm>
              <a:off x="3659040" y="1550880"/>
              <a:ext cx="17542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Theoretische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_s8206"/>
            <p:cNvSpPr/>
            <p:nvPr/>
          </p:nvSpPr>
          <p:spPr>
            <a:xfrm>
              <a:off x="4327560" y="2832120"/>
              <a:ext cx="1754280" cy="1755720"/>
            </a:xfrm>
            <a:prstGeom prst="ellipse">
              <a:avLst/>
            </a:prstGeom>
            <a:solidFill>
              <a:srgbClr val="f60802">
                <a:alpha val="50000"/>
              </a:srgbClr>
            </a:solidFill>
            <a:ln w="9360">
              <a:solidFill>
                <a:srgbClr val="f6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_s8202"/>
            <p:cNvSpPr/>
            <p:nvPr/>
          </p:nvSpPr>
          <p:spPr>
            <a:xfrm>
              <a:off x="6256440" y="3490920"/>
              <a:ext cx="17539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Technische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_s8207"/>
            <p:cNvSpPr/>
            <p:nvPr/>
          </p:nvSpPr>
          <p:spPr>
            <a:xfrm>
              <a:off x="3659040" y="3500280"/>
              <a:ext cx="1754280" cy="1756080"/>
            </a:xfrm>
            <a:prstGeom prst="ellipse">
              <a:avLst/>
            </a:prstGeom>
            <a:solidFill>
              <a:srgbClr val="f1fd09">
                <a:alpha val="50000"/>
              </a:srgbClr>
            </a:solidFill>
            <a:ln w="9360">
              <a:solidFill>
                <a:srgbClr val="f1f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_s8204"/>
            <p:cNvSpPr/>
            <p:nvPr/>
          </p:nvSpPr>
          <p:spPr>
            <a:xfrm>
              <a:off x="3659040" y="5430960"/>
              <a:ext cx="17542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Praktische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_s8208"/>
            <p:cNvSpPr/>
            <p:nvPr/>
          </p:nvSpPr>
          <p:spPr>
            <a:xfrm>
              <a:off x="2990880" y="2832120"/>
              <a:ext cx="1754280" cy="1755720"/>
            </a:xfrm>
            <a:prstGeom prst="ellipse">
              <a:avLst/>
            </a:prstGeom>
            <a:solidFill>
              <a:srgbClr val="01bd0a">
                <a:alpha val="50000"/>
              </a:srgbClr>
            </a:solidFill>
            <a:ln w="936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_s8209"/>
            <p:cNvSpPr/>
            <p:nvPr/>
          </p:nvSpPr>
          <p:spPr>
            <a:xfrm>
              <a:off x="1060560" y="3490920"/>
              <a:ext cx="17539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Angewandte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heoretische 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hal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ogi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gorith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bau von Programmierspra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enzen der Berechenbarke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Theoretische I. vermittelt Grundlagen der Informati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strahiert Probleme, unabhängig von den technischen Gegebenhei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utzt die Mathematik zur Problembeschreib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chreibt auch Probleme, die nicht mit dem Computer zu lösen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ie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öglichst wenig „Annahmen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öglichst keine „Ausnahmen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echnische 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hal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nstruktion von Rechnern, Speichern und Prozesso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nstruktion von Peripheriegeräten (Bildschirm, Drucker, Scann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Technische I. ist allgemein für die Hardware zuständ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berücksichtigt aber auch die Möglichkeiten der Softwa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enzt an die Elektrotechni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aktische 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hal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chnologie der Programmie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u von Compilern (Übersetzen von Programmcode in Maschinensprach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wicklung von Betriebssyste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Praktische I. orientiert sich an der zur Verfügung stehenden Hardwa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bildet mit ihren Inhalten die Brücke zwischen Hard- und Softwa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gewandte 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hal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wicklung von Software für einzelne Aufgabenstellung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wurf von Konzepten zur Planung und Umsetz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ngewandte I. baut auf den Erkenntnissen (mathematische Grundlagen) und Produkten (Hardware und Compiler) der anderen Bereiche au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 bildet die Schnittstelle zum Endnutz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reiche der Informa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060560" y="1550880"/>
            <a:ext cx="6949800" cy="4318200"/>
            <a:chOff x="1060560" y="1550880"/>
            <a:chExt cx="6949800" cy="4318200"/>
          </a:xfrm>
        </p:grpSpPr>
        <p:sp>
          <p:nvSpPr>
            <p:cNvPr id="88" name="_s24581"/>
            <p:cNvSpPr/>
            <p:nvPr/>
          </p:nvSpPr>
          <p:spPr>
            <a:xfrm>
              <a:off x="3659040" y="2163600"/>
              <a:ext cx="1754280" cy="1756080"/>
            </a:xfrm>
            <a:prstGeom prst="ellipse">
              <a:avLst/>
            </a:prstGeom>
            <a:solidFill>
              <a:srgbClr val="0399ff">
                <a:alpha val="50000"/>
              </a:srgbClr>
            </a:solidFill>
            <a:ln w="936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_s24582"/>
            <p:cNvSpPr/>
            <p:nvPr/>
          </p:nvSpPr>
          <p:spPr>
            <a:xfrm>
              <a:off x="3659040" y="1550880"/>
              <a:ext cx="17542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Theoretische I.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(Grundlage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_s24583"/>
            <p:cNvSpPr/>
            <p:nvPr/>
          </p:nvSpPr>
          <p:spPr>
            <a:xfrm>
              <a:off x="4327560" y="2832120"/>
              <a:ext cx="1754280" cy="1755720"/>
            </a:xfrm>
            <a:prstGeom prst="ellipse">
              <a:avLst/>
            </a:prstGeom>
            <a:solidFill>
              <a:srgbClr val="f60802">
                <a:alpha val="50000"/>
              </a:srgbClr>
            </a:solidFill>
            <a:ln w="9360">
              <a:solidFill>
                <a:srgbClr val="f6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_s24584"/>
            <p:cNvSpPr/>
            <p:nvPr/>
          </p:nvSpPr>
          <p:spPr>
            <a:xfrm>
              <a:off x="6256440" y="3490920"/>
              <a:ext cx="17539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Technische I.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(Hardwar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_s24585"/>
            <p:cNvSpPr/>
            <p:nvPr/>
          </p:nvSpPr>
          <p:spPr>
            <a:xfrm>
              <a:off x="3659040" y="3500280"/>
              <a:ext cx="1754280" cy="1756080"/>
            </a:xfrm>
            <a:prstGeom prst="ellipse">
              <a:avLst/>
            </a:prstGeom>
            <a:solidFill>
              <a:srgbClr val="f1fd09">
                <a:alpha val="50000"/>
              </a:srgbClr>
            </a:solidFill>
            <a:ln w="9360">
              <a:solidFill>
                <a:srgbClr val="f1f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_s24586"/>
            <p:cNvSpPr/>
            <p:nvPr/>
          </p:nvSpPr>
          <p:spPr>
            <a:xfrm>
              <a:off x="3659040" y="5430960"/>
              <a:ext cx="17542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Praktische I.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(Compiler, Betriebssystem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_s24587"/>
            <p:cNvSpPr/>
            <p:nvPr/>
          </p:nvSpPr>
          <p:spPr>
            <a:xfrm>
              <a:off x="2990880" y="2832120"/>
              <a:ext cx="1754280" cy="1755720"/>
            </a:xfrm>
            <a:prstGeom prst="ellipse">
              <a:avLst/>
            </a:prstGeom>
            <a:solidFill>
              <a:srgbClr val="01bd0a">
                <a:alpha val="50000"/>
              </a:srgbClr>
            </a:solidFill>
            <a:ln w="936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_s24588"/>
            <p:cNvSpPr/>
            <p:nvPr/>
          </p:nvSpPr>
          <p:spPr>
            <a:xfrm>
              <a:off x="1060560" y="3490920"/>
              <a:ext cx="17539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Angewandte I.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(Softwar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0-20T14:31:43Z</dcterms:modified>
  <cp:revision>50</cp:revision>
  <dc:subject/>
  <dc:title>PowerPoint Presentation</dc:title>
</cp:coreProperties>
</file>