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8988425" cy="12909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Hardware I: Der Zugang zum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B108-48B2-4717-939C-20FC6AB032FB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lekom.de/" TargetMode="External"/><Relationship Id="rId2" Type="http://schemas.openxmlformats.org/officeDocument/2006/relationships/hyperlink" Target="http://www.t-online.de/" TargetMode="External"/><Relationship Id="rId3" Type="http://schemas.openxmlformats.org/officeDocument/2006/relationships/hyperlink" Target="http://www.dtag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reenet.de/hilfe/einwahl/win9x/dfue_netzwerk/index.html" TargetMode="External"/><Relationship Id="rId2" Type="http://schemas.openxmlformats.org/officeDocument/2006/relationships/hyperlink" Target="http://www.freenet.de/hilfe/einwahl/win9x/verbindung/index.html" TargetMode="External"/><Relationship Id="rId3" Type="http://schemas.openxmlformats.org/officeDocument/2006/relationships/hyperlink" Target="http://www.freenet.de/hilfe/einwahl/win9x/verbindung/index.html" TargetMode="External"/><Relationship Id="rId4" Type="http://schemas.openxmlformats.org/officeDocument/2006/relationships/hyperlink" Target="http://www.freenet.de/hilfe/einwahl/win9x/verbindung/index.html" TargetMode="External"/><Relationship Id="rId5" Type="http://schemas.openxmlformats.org/officeDocument/2006/relationships/hyperlink" Target="http://www.freenet.de/hilfe/einwahl/win9x/verbindung/index.html" TargetMode="External"/><Relationship Id="rId6" Type="http://schemas.openxmlformats.org/officeDocument/2006/relationships/hyperlink" Target="http://www.freenet.de/hilfe/einwahl/win9x/verbindung/index.html" TargetMode="External"/><Relationship Id="rId7" Type="http://schemas.openxmlformats.org/officeDocument/2006/relationships/hyperlink" Target="http://www.freenet.de/hilfe/einwahl/win9x/verbindung/index.html" TargetMode="External"/><Relationship Id="rId8" Type="http://schemas.openxmlformats.org/officeDocument/2006/relationships/hyperlink" Target="http://www.freenet.de/hilfe/einwahl/win9x/verbindung/index.html" TargetMode="External"/><Relationship Id="rId9" Type="http://schemas.openxmlformats.org/officeDocument/2006/relationships/hyperlink" Target="http://www.freenet.de/hilfe/einwahl/win9x/verbindung/index.html" TargetMode="External"/><Relationship Id="rId10" Type="http://schemas.openxmlformats.org/officeDocument/2006/relationships/hyperlink" Target="http://www.freenet.de/hilfe/einwahl/win9x/verbindung/index.html" TargetMode="External"/><Relationship Id="rId11" Type="http://schemas.openxmlformats.org/officeDocument/2006/relationships/hyperlink" Target="http://www.freenet.de/hilfe/einwahl/win9x/verbindung/index.html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Provider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vider = Dienstleister, der Ihnen den Zugang zum Internet benötig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neben benötigen Sie noch einen Anbieter, der Ihnen die dafür notwendige Telefonleitung zur Verfügung stel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kann möglich sein, das Ihr Telefonanbieter auch gleichzeitig Ihr Provider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Telefonanschlu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elekom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telekom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BerliKom, Arcor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zu telefonie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Ihren Internet-Provider zu errei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bieter Intern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.B. T-Online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t-online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dtag.d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, Freenet, AOL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Ihnen eine Verbindung zum Internet herzuste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wählen sich dazu in den Hauptrechner Ihres Anbieters ein. Von dort aus erfolgt dann die Verbindung zum Inter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e erhalten von Ihrem Anbieter 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“, die Sie zur Konfiguration der DFÜ-Software benöti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ll-by-Cal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sart beachten! (Sekundengenau, pro Minute, pro 3 Minu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 oder ohne Anmeldu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Anmeldung notwendi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Grund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der wird ein Mindestumsatz gefordert (pro Monat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Freiminuten angeboten, wenn eine Grundgebühr bezahlt wir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lls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eine zusätzliche Einwahlgebühr erhob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cor by call ohne Anmeld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Anmel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Grundgebü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 Cent Einwahlgebühr (d.h. bei jeder Neueinwahl ins Inter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Cent pro Minute (bei 1-Minuten-Tak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Kostenbeispiel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SL-Flatr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eitlich unbeschränkte Einwahl ins Internet mög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htung: Eventl. Volumenbegrenzu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meldung immer erforderli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fl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ine Volumenbeschränk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Benut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5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5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 DSL 10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1000 MB Daten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9,95 Euro / Mo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ere Benutzer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sätzliche Kost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undgebühr für DSL-Zugang = 9,99 Euro (ISDN XXL) bis 19,99 Euro (T-Net) Anschlussgebühren für den Telefonanschlu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malige Anschlussgebühr für DSL-Zug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Hardware-Voraussetz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02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Analo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Modem“ (Download &amp; Upload: 56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oges Mo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ISD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ISDN-Karte“ (Download &amp; Upload: 64 bzw.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TBA (Signalumwandlung Telefonleitung &lt;-&gt; Endgerä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DN-Karte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zugang per DS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anschluss: Analog oder IS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gang per sog. „DSL-Modem“ (Download: 768 kbit/s, Upload: 128 kbit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forderliche Hard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ISDN-Anschluss: NT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litter (Trennung Telefonsignal und DSL-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SL-Modem (Signalumwandlung Computer &lt;-&gt; Telefonlei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zwerkkarte (Anschluss an den Rech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Voraussetzung „Software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rätetreib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em Computer die Kommunikation mit dem Endgerät (z.B. Modem, ISDN-Karte, DSL-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FÜ-Softw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möglicht die Nutzung des Gerätetreiber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z.B. für das Mod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 der ersten Konfiguration benötigen Si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hre persönlich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gangsda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lefonnummer des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ventl. Zusatzdaten (meist nicht notwendig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Zielrech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-Adresse des DNS-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lfeseiten Freenet für Windows 95/9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 installieren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freenet.de/hilfe/einwahl/win9x/dfue_netzwerk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stellen einer DFÜ-Verbindung:</a:t>
            </a:r>
            <a:br>
              <a:rPr sz="1400"/>
            </a:b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www.freenet.d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ilfe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einwahl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/win9x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verbindung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/</a:t>
            </a:r>
            <a:r>
              <a:rPr b="0" lang="de-DE" sz="14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5435640" y="1773360"/>
            <a:ext cx="295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Zugang: Ablauf der Einrich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ndbuch zur Installation der Hardware und des Providers lesen!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- bzw. Einbau der 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kabelung (Stecker müssen einrasten bzw. verschraub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allation der Software (Achtung: Teilweise muss erst die Software installiert werden und erst danach die Hardware in den Rechner eingebaut werden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FÜ-Netzwerk konfigurier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owser konfigurieren (z.B. Internet-Explorer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Programm konfigurieren mit folgenden Angab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utz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w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-Mail-Adr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eingangs-Server (P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tausgangs-Server (SM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329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DS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197000"/>
            <a:ext cx="7558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kabelung Kombikarte DSL &amp; ISD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05800" cy="472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51640" y="981000"/>
            <a:ext cx="2592360" cy="2592360"/>
          </a:xfrm>
          <a:prstGeom prst="ellipse">
            <a:avLst/>
          </a:prstGeom>
          <a:solidFill>
            <a:srgbClr val="ffffff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2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bikart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DSL-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Netzwerk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+ ISDN-K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40000" y="3141720"/>
            <a:ext cx="8636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67280" y="4941720"/>
            <a:ext cx="208944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1-17T17:01:49Z</dcterms:modified>
  <cp:revision>128</cp:revision>
  <dc:subject/>
  <dc:title>PowerPoint Presentation</dc:title>
</cp:coreProperties>
</file>