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7. Exkursion: Software Herst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6426-4EB3-4981-9C92-487C0D1A00F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ku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6:26Z</dcterms:modified>
  <cp:revision>69</cp:revision>
  <dc:subject/>
  <dc:title>PowerPoint Presentation</dc:title>
</cp:coreProperties>
</file>