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583236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9. Software IV: Branchenneutrale Administrationssys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A20F-2EA4-44FC-AB96-1EDBBA963CCC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ntrexx.de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lo-digital.de/" TargetMode="External"/><Relationship Id="rId2" Type="http://schemas.openxmlformats.org/officeDocument/2006/relationships/hyperlink" Target="http://www.elo-digital.de/" TargetMode="External"/><Relationship Id="rId3" Type="http://schemas.openxmlformats.org/officeDocument/2006/relationships/hyperlink" Target="http://bscw.gmd.de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chenneutrale Administrations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-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nungswe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ntentmanagement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zialisierungen von Contentmanagement-System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ranet Lösungen z.B.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www.intrexx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ranet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nmanagement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O-Office -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.elo-digital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SCW - </a:t>
            </a:r>
            <a:r>
              <a:rPr b="0" lang="de-DE" sz="16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http://bscw.gmd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Heil</cp:lastModifiedBy>
  <dcterms:modified xsi:type="dcterms:W3CDTF">2003-04-01T16:39:00Z</dcterms:modified>
  <cp:revision>63</cp:revision>
  <dc:subject/>
  <dc:title>PowerPoint Presentation</dc:title>
</cp:coreProperties>
</file>