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5. IT Projektmanagement</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53DD-D216-40D8-A163-46E669888116}"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und.de/Service-Center/Ausschreibungen/Rechtliche-Grundlagen-.6471.htm" TargetMode="External"/><Relationship Id="rId2" Type="http://schemas.openxmlformats.org/officeDocument/2006/relationships/hyperlink" Target="http://www.bund.de/Service-Center/Ausschreibungen/Rechtliche-Grundlagen-.6471.htm" TargetMode="External"/><Relationship Id="rId3" Type="http://schemas.openxmlformats.org/officeDocument/2006/relationships/hyperlink" Target="http://www.bund.de/Service-Center/Ausschreibungen/Rechtliche-Grundlagen-.6471.htm"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T Projektmanagement</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Einführung einer Software-Lösung muss als Projekt verstand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jedem Fall ist es notwendig einen Projektverantwortlichen zu benenn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nachfolgende Beispiel erläutert den Projektverlauf zur Einführung einer Dienstplanungs-Software. Der Verlauf unterteilt sich in vier Phas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1: 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2: Auswah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3: Install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ase 4: Wa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6"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Methodi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relevanten Funktionen werden in Tabellenform aufgelist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dieser Funktionen wird mit Punkten bewert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unzureichend erfüll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Funktion erfüllt, aber mit Einbußen im Betrie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erfüllt, ohne Einbußen, jedoch nicht wie gewüns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voll erfüll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für jede Funktion ein Gewichtungsfaktor festgeleg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 Funktion ist wünschenswert, aber nicht essentie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 sollte in Teilen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Funktion sollte größtenteils vorhanden sei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 Funktion in jedem Fall notwendi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ein Einzelergebnis zu erhalten, wird nun die Punktzahl mit dem Gewichtungsfaktor multipliziert.</a:t>
            </a:r>
            <a:br>
              <a:rPr sz="1600"/>
            </a:br>
            <a:r>
              <a:rPr b="0" lang="de-DE" sz="1600" spc="-1" strike="noStrike">
                <a:solidFill>
                  <a:srgbClr val="000000"/>
                </a:solidFill>
                <a:latin typeface="Arial"/>
              </a:rPr>
              <a:t>Ergebnis ist die Bewertung einer Funktion von einer Softwa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Gesamtergebnis erhält man, wenn man alle Einzelergebnisse addiert. Diese Zahl ermöglicht schließlich den Vergleich der verschiedenen Produ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pic>
        <p:nvPicPr>
          <p:cNvPr id="78" name="" descr=""/>
          <p:cNvPicPr/>
          <p:nvPr/>
        </p:nvPicPr>
        <p:blipFill>
          <a:blip r:embed="rId1"/>
          <a:stretch/>
        </p:blipFill>
        <p:spPr>
          <a:xfrm>
            <a:off x="611280" y="1484280"/>
            <a:ext cx="7772400" cy="2489400"/>
          </a:xfrm>
          <a:prstGeom prst="rect">
            <a:avLst/>
          </a:prstGeom>
          <a:ln w="0">
            <a:noFill/>
          </a:ln>
        </p:spPr>
      </p:pic>
      <p:sp>
        <p:nvSpPr>
          <p:cNvPr id="79" name=""/>
          <p:cNvSpPr/>
          <p:nvPr/>
        </p:nvSpPr>
        <p:spPr>
          <a:xfrm>
            <a:off x="815760" y="4336920"/>
            <a:ext cx="539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 = Punkte pro Kriter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G = Gewichtete Punkte pro Kriterium (= Gewichtung * 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1"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begrenzte Dienste verfüg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4 - Begründung: Langfristig sollen alle Berufsgruppen mit der Software verwaltet werden. Jedoch steht die Anzahl der Dienste noch nicht fe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1 Punkt: Die Anzahl der Dienste ist festgelegt und kann nicht verändert werd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ie Anzahl der Dienste ist unbegrenzt erweiterb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mmdaten importier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1 - Begründung: Die Stammdaten der Mitarbeiter sind in der Personalabteilung bereits erfasst. Letztlich ist der Zeitaufwand zur Neuerfassung jedoch begrenz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er Datenimport ist im vollen Umfan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1 Punkt: Der Datenimport ist möglich, nicht jedoch für die im Hause verwendete Softwar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3"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natsübersicht für mind. 10 Mitarbeiter am Bildschirm darstellba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3 - Begründung: Da teilweise bis zu 30 Mitarbeitern pro Station eingesetzt werden, ist die Übersichtsfunktion für die Planung unerlässlich. Als Alternative wären jedoch auch andere Übersichtsformen (z.B. per Ausdruck) akzeptabe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ie Darstellung von 15 Mitarbeitern ist gleichzeitig mögli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3 Punkte: Die Darstellung von 7 Mitarbeitern gleichzeitig ist möglich.</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tzwerkfähigk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ichtung 2 - Begründung: Grundsätzlich muss das Produkt netzwerkfähig sein. Eine Benutzerverwaltung ist jedoch nicht notwendig. D.h. es erscheint ausreichend, wenn Führungskräfte gleichzeitig Zugang gewährt wir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 4 Punkte: Das Produkt ist voll netzwerkfähig und enthält eine detaillierte Benutzerverwaltu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 4 Punkte: Das Produkt ist voll netzwerkfähig und enthält eine detaillierte Benutzerverwaltu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85"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 &gt; Beispielauswertung &gt; Ergebn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ultiplikation der Einzelpunkte mit der jeweiligen Gewichtung ergibt in absoluten Zahlen fü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1: Absolute Punktzahl 28 (= 70 Proz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 2: Absolute Punktzahl 34 (= 85 Prozen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bwohl der Import der Stammdaten bei Produkt 2 nicht möglich ist, wird der Kauf von Produkt 2 empfohlen. Grund hierfür ist die hohe Relevanz der anderen Funktionen und der dazugehörigen Leistungsfähigkeit des Produk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87"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ilotinstallatio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efgreifende Tests der Software vor Or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st eine Pilotinstallation nicht möglich, so sollten zu diesem Zeitpunkt Referenzkunden der ausgewählten Produkte kontaktier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auswahl</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1: Gewünschtes Produkt wurde gefunden und wird gekauf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keit 2: Kein Produkt erfüllt die Anforderungen. Dann folg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rage an die besten ermittelten Hersteller, inwiefern eine individualisierte Anpassung möglich ist (= Customizin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mmt eine Individual-Software in Betrach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uss eine erneute Recherche erfolg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dergebnis: Abschluss des Kaufvertrage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89"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3. Installation</a:t>
            </a:r>
            <a:endParaRPr b="1" lang="en-US" sz="2000" spc="-1" strike="noStrike">
              <a:solidFill>
                <a:srgbClr val="000000"/>
              </a:solidFill>
              <a:latin typeface="Arial"/>
            </a:endParaRPr>
          </a:p>
        </p:txBody>
      </p:sp>
      <p:sp>
        <p:nvSpPr>
          <p:cNvPr id="91"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chutz- und Ausfallkonzept</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chutz-Maßnahmen</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Systemsicher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lanung der Datensicheru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s Netzwerk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bau der Hard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s Betriebssyste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Standard-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llation der Dienstplanungs-Softwa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ystemsicherung</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s Administrators</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ulung der Mitarbeiter</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gangsphas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3:</a:t>
            </a:r>
            <a:br>
              <a:rPr sz="1800"/>
            </a:br>
            <a:r>
              <a:rPr b="1" lang="de-DE" sz="2400" spc="-1" strike="noStrike">
                <a:solidFill>
                  <a:srgbClr val="000000"/>
                </a:solidFill>
                <a:latin typeface="Arial"/>
              </a:rPr>
              <a:t>Installation</a:t>
            </a:r>
            <a:endParaRPr b="0" lang="en-US" sz="2400" spc="-1" strike="noStrike">
              <a:solidFill>
                <a:srgbClr val="000000"/>
              </a:solidFill>
              <a:latin typeface="Times New Roman"/>
            </a:endParaRPr>
          </a:p>
        </p:txBody>
      </p:sp>
      <p:sp>
        <p:nvSpPr>
          <p:cNvPr id="93"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4. Wartung</a:t>
            </a:r>
            <a:endParaRPr b="1" lang="en-US" sz="2000" spc="-1" strike="noStrike">
              <a:solidFill>
                <a:srgbClr val="000000"/>
              </a:solidFill>
              <a:latin typeface="Arial"/>
            </a:endParaRPr>
          </a:p>
        </p:txBody>
      </p:sp>
      <p:sp>
        <p:nvSpPr>
          <p:cNvPr id="95"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icher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regelmäßiger Datensicherunge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spielen neuer Updat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Upgrade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rdware-Wart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andhaltung der Hardwa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rmation über und ggf. Einsatz von neuer Hard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ulung neuer Mitarbeit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twicklung eines Konzepts zur Schulung neuer Mitarbeiter im Umgang mit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4:</a:t>
            </a:r>
            <a:br>
              <a:rPr sz="1800"/>
            </a:br>
            <a:r>
              <a:rPr b="1" lang="de-DE" sz="2400" spc="-1" strike="noStrike">
                <a:solidFill>
                  <a:srgbClr val="000000"/>
                </a:solidFill>
                <a:latin typeface="Arial"/>
              </a:rPr>
              <a:t>Wartung</a:t>
            </a:r>
            <a:endParaRPr b="0" lang="en-US" sz="2400" spc="-1" strike="noStrike">
              <a:solidFill>
                <a:srgbClr val="000000"/>
              </a:solidFill>
              <a:latin typeface="Times New Roman"/>
            </a:endParaRPr>
          </a:p>
        </p:txBody>
      </p:sp>
      <p:sp>
        <p:nvSpPr>
          <p:cNvPr id="97"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54"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aterauswah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n kann ich als externen Berater hinzu zieh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soll er für uns erfül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übernehmen interne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IST-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r sind die Beteiligt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Aufgaben erfüllt jeder Beteilig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e findet der Informationsaustausch zwischen den Beteiligten stat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chritte sind notwendig, bis ein Dienstplan gestaltet is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Formulare werden benutz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Strukturen sind bereits vorhanden (Räume, Netzwerk etc.)?</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56"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Bewertung des IST-Zustand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ilnehmende Beobacht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zur Erhebung der Abläufe eingesetzt werden.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lte von einem externen Berater durchgefüh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frag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Aufgaben jedes Beteiligten zu ermittel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empfiehlt sich, die Befragung in Form eines Interviews (halbstrukturiert) durchzuführ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kumentenanaly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z. B. verwendet werden, um die Inhalte der verwendeten Formulare zu analysi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a:t>
            </a:r>
            <a:endParaRPr b="1" lang="en-US" sz="2000" spc="-1" strike="noStrike">
              <a:solidFill>
                <a:srgbClr val="000000"/>
              </a:solidFill>
              <a:latin typeface="Arial"/>
            </a:endParaRPr>
          </a:p>
        </p:txBody>
      </p:sp>
      <p:sp>
        <p:nvSpPr>
          <p:cNvPr id="60"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lyse des SOLL-Zustand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Ziele sollen erreicht werd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lche Maßnahmen sind hierfür notwendi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Pflichtenheft</a:t>
            </a:r>
            <a:br>
              <a:rPr sz="1400"/>
            </a:br>
            <a:r>
              <a:rPr b="0" lang="de-DE" sz="1400" spc="-1" strike="noStrike">
                <a:solidFill>
                  <a:srgbClr val="000000"/>
                </a:solidFill>
                <a:latin typeface="Arial"/>
              </a:rPr>
              <a:t>Beschreibt alle Anforderungen, die vom Auftraggeber an die Software gestellt werden.</a:t>
            </a:r>
            <a:br>
              <a:rPr sz="1400"/>
            </a:br>
            <a:r>
              <a:rPr b="0" lang="de-DE" sz="1400" spc="-1" strike="noStrike">
                <a:solidFill>
                  <a:srgbClr val="000000"/>
                </a:solidFill>
                <a:latin typeface="Arial"/>
              </a:rPr>
              <a:t>Da das Pflichtenheft in der Regel als Vertragsgrundlage verwendet wird, sollten die Ausführungen so detailliert wie möglich sein.</a:t>
            </a:r>
            <a:br>
              <a:rPr sz="1400"/>
            </a:br>
            <a:r>
              <a:rPr b="0" lang="de-DE" sz="1400" spc="-1" strike="noStrike">
                <a:solidFill>
                  <a:srgbClr val="000000"/>
                </a:solidFill>
                <a:latin typeface="Arial"/>
              </a:rPr>
              <a:t>Ferner sollten Anforderungen, die in jedem Fall erfüllt sein müssen (KO-Kriterien) besonders gekennzeichnet sei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gebotseinhol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öffentliche Ausschreibung.</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 eigene Marktanalys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1:</a:t>
            </a:r>
            <a:br>
              <a:rPr sz="1800"/>
            </a:br>
            <a:r>
              <a:rPr b="1" lang="de-DE" sz="2400" spc="-1" strike="noStrike">
                <a:solidFill>
                  <a:srgbClr val="000000"/>
                </a:solidFill>
                <a:latin typeface="Arial"/>
              </a:rPr>
              <a:t>Analyse</a:t>
            </a:r>
            <a:endParaRPr b="0" lang="en-US" sz="2400" spc="-1" strike="noStrike">
              <a:solidFill>
                <a:srgbClr val="000000"/>
              </a:solidFill>
              <a:latin typeface="Times New Roman"/>
            </a:endParaRPr>
          </a:p>
        </p:txBody>
      </p:sp>
      <p:sp>
        <p:nvSpPr>
          <p:cNvPr id="62"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1. Analyse: Methoden</a:t>
            </a:r>
            <a:endParaRPr b="1" lang="en-US" sz="2000" spc="-1" strike="noStrike">
              <a:solidFill>
                <a:srgbClr val="000000"/>
              </a:solidFill>
              <a:latin typeface="Arial"/>
            </a:endParaRPr>
          </a:p>
        </p:txBody>
      </p:sp>
      <p:sp>
        <p:nvSpPr>
          <p:cNvPr id="6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Öffentliche Ausschreibu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öffentliche Ausschreibung sollte folgende Inhalte enthalt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orderte und erwünschte Funktion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gegebene Systemvoraussetzungen (z. B. Betriebssyste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zahl der erforderlichen Arbeitsplätz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Auftragnehmer sollte zudem aufgefordert werden, folgende Inhalte in das Angebot mit aufzunehm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taillierte Beispielkostenrechnung (Lizenzen, Einführungskosten, Betriebskos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t der Realisierung von Datenschutz und Datensicherhei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nittstellen zu anderen Produk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weiterungsmöglichkei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ferenzkunde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achte</a:t>
            </a:r>
            <a:r>
              <a:rPr b="0" lang="de-DE" sz="1600" spc="-1" strike="noStrike">
                <a:solidFill>
                  <a:srgbClr val="000000"/>
                </a:solidFill>
                <a:latin typeface="Arial"/>
              </a:rPr>
              <a:t>: Für öffentliche Einrichtungen gilt zusätzlich die „Verdingungsverordnung für Leistungen – VOL“. Internet: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bund.de</a:t>
            </a:r>
            <a:r>
              <a:rPr b="0" lang="de-DE" sz="1600" spc="-1" strike="noStrike" u="sng">
                <a:solidFill>
                  <a:srgbClr val="0000cc"/>
                </a:solidFill>
                <a:uFillTx/>
                <a:latin typeface="Arial"/>
                <a:hlinkClick r:id="rId3"/>
              </a:rPr>
              <a:t>/Service-Center/Ausschreibungen/_x000b_Rechtliche-Grundlagen-.6471.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a:t>
            </a:r>
            <a:endParaRPr b="1" lang="en-US" sz="2000" spc="-1" strike="noStrike">
              <a:solidFill>
                <a:srgbClr val="000000"/>
              </a:solidFill>
              <a:latin typeface="Arial"/>
            </a:endParaRPr>
          </a:p>
        </p:txBody>
      </p:sp>
      <p:sp>
        <p:nvSpPr>
          <p:cNvPr id="66" name="PlaceHolder 2"/>
          <p:cNvSpPr>
            <a:spLocks noGrp="1"/>
          </p:cNvSpPr>
          <p:nvPr>
            <p:ph/>
          </p:nvPr>
        </p:nvSpPr>
        <p:spPr>
          <a:xfrm>
            <a:off x="4647960" y="1125000"/>
            <a:ext cx="3809880" cy="496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orbereitu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welche die KO-Kriterien nicht erfülle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schluss der Anbieter, die aus Kostengründen nicht in Frage kom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rchführung der Nutzwertanalys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gebnis: Hersteller, die zur Produktpräsentation eingeladen werd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präsent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eines Arbeitsablauf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äsentation von Besonderheiten der Softwar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539640" y="3263760"/>
            <a:ext cx="295128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 2:</a:t>
            </a:r>
            <a:br>
              <a:rPr sz="1800"/>
            </a:br>
            <a:r>
              <a:rPr b="1" lang="de-DE" sz="2400" spc="-1" strike="noStrike">
                <a:solidFill>
                  <a:srgbClr val="000000"/>
                </a:solidFill>
                <a:latin typeface="Arial"/>
              </a:rPr>
              <a:t>Auswahl</a:t>
            </a:r>
            <a:endParaRPr b="0" lang="en-US" sz="2400" spc="-1" strike="noStrike">
              <a:solidFill>
                <a:srgbClr val="000000"/>
              </a:solidFill>
              <a:latin typeface="Times New Roman"/>
            </a:endParaRPr>
          </a:p>
        </p:txBody>
      </p:sp>
      <p:sp>
        <p:nvSpPr>
          <p:cNvPr id="68" name=""/>
          <p:cNvSpPr/>
          <p:nvPr/>
        </p:nvSpPr>
        <p:spPr>
          <a:xfrm>
            <a:off x="3708360" y="1125360"/>
            <a:ext cx="576360" cy="4967640"/>
          </a:xfrm>
          <a:custGeom>
            <a:avLst/>
            <a:gdLst>
              <a:gd name="textAreaLeft" fmla="*/ 368280 w 576360"/>
              <a:gd name="textAreaRight" fmla="*/ 576720 w 576360"/>
              <a:gd name="textAreaTop" fmla="*/ 129240 h 4967640"/>
              <a:gd name="textAreaBottom" fmla="*/ 4838400 h 496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0"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spiel: Nutzwertanaly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utzwertanalyse dient der Bewertung gleichartiger Produkte.</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el ist es, das Produkt mit dem größten Nutzen in Bezug auf den eigenen Betrieb zu ermittel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Bewertung erfolgt mit Hilfe der Vergabe von Punkten in Bezug auf alle wichtigen Funktionen der Soft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ollten nicht zu viele Funktionen zur Bewertung herangezogen werden, um die Durchführung noch handhabbar zu gestal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die wesentlichen  Funktionen ausfindig zu machen, kann die „DIN EN ISO 9421 – Teil 10: Grundsätze der Dialoggestaltung“ herangezogen werd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 wird die Bepunktung gewichtet, um eine Unter- bzw. Überbewertung der Funktion zu vermeid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2"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gabenangemessenheit</a:t>
            </a:r>
            <a:r>
              <a:rPr b="0" lang="de-DE" sz="1600" spc="-1" strike="noStrike">
                <a:solidFill>
                  <a:srgbClr val="000000"/>
                </a:solidFill>
                <a:latin typeface="Arial"/>
              </a:rPr>
              <a:t>: Ein Dialog ist aufgabenangemessen, wenn er den Benutzer unterstützt, seine Arbeitsaufgabe effektiv und effizient zu erledig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lbstbeschreibungsfähigkeit</a:t>
            </a:r>
            <a:r>
              <a:rPr b="0" lang="de-DE" sz="1600" spc="-1" strike="noStrike">
                <a:solidFill>
                  <a:srgbClr val="000000"/>
                </a:solidFill>
                <a:latin typeface="Arial"/>
              </a:rPr>
              <a:t>: Ein Dialog ist selbstbeschreibungsfähig, wenn jeder einzelne Dialogschritt durch Rückmeldung des Dialogsystems unmittelbar verständlich ist oder dem Benutzer auf Anfrage erklärt wir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uerbarkeit</a:t>
            </a:r>
            <a:r>
              <a:rPr b="0" lang="de-DE" sz="1600" spc="-1" strike="noStrike">
                <a:solidFill>
                  <a:srgbClr val="000000"/>
                </a:solidFill>
                <a:latin typeface="Arial"/>
              </a:rPr>
              <a:t>: Ein Dialog ist steuerbar, wenn der Benutzer in der Lage ist, den Dialogablauf zu starten sowie seine Richtung und Geschwindigkeit zu beeinflussen, bis das Ziel erreicht i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wartungskonformität</a:t>
            </a:r>
            <a:r>
              <a:rPr b="0" lang="de-DE" sz="1600" spc="-1" strike="noStrike">
                <a:solidFill>
                  <a:srgbClr val="000000"/>
                </a:solidFill>
                <a:latin typeface="Arial"/>
              </a:rPr>
              <a:t>: Ein Dialog ist erwartungskonform, wenn er konsistent ist und den Merkmalen des Benutzers entspricht, z.B. den Kenntnissen aus dem Arbeitsgebiet, der Ausbildung und der Erfahrung des Benutzers sowie den allgemein annerkannten Konvention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jektphasen: 2. Auswahl: Methoden</a:t>
            </a:r>
            <a:endParaRPr b="1" lang="en-US" sz="2000" spc="-1" strike="noStrike">
              <a:solidFill>
                <a:srgbClr val="000000"/>
              </a:solidFill>
              <a:latin typeface="Arial"/>
            </a:endParaRPr>
          </a:p>
        </p:txBody>
      </p:sp>
      <p:sp>
        <p:nvSpPr>
          <p:cNvPr id="74" name="PlaceHolder 2"/>
          <p:cNvSpPr>
            <a:spLocks noGrp="1"/>
          </p:cNvSpPr>
          <p:nvPr>
            <p:ph/>
          </p:nvPr>
        </p:nvSpPr>
        <p:spPr>
          <a:xfrm>
            <a:off x="685800" y="1125360"/>
            <a:ext cx="77724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kurs: DIN EN ISO 9421 – Teil 10: Grundlagen der Dialoggestalt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ehlertoleranz</a:t>
            </a:r>
            <a:r>
              <a:rPr b="0" lang="de-DE" sz="1600" spc="-1" strike="noStrike">
                <a:solidFill>
                  <a:srgbClr val="000000"/>
                </a:solidFill>
                <a:latin typeface="Arial"/>
              </a:rPr>
              <a:t>: Ein Dialog ist fehlertolerant, wenn das beabsichtigte Arbeitsergebnis trotz erkennbar fehlerhafter Eingaben entweder mit keinem oder mit minimalem Korrekturaufwand durch den Benutzer erreicht werden kan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dividualisierbarkeit</a:t>
            </a:r>
            <a:r>
              <a:rPr b="0" lang="de-DE" sz="1600" spc="-1" strike="noStrike">
                <a:solidFill>
                  <a:srgbClr val="000000"/>
                </a:solidFill>
                <a:latin typeface="Arial"/>
              </a:rPr>
              <a:t>: Ein Dialog ist individualisierbar, wenn das Dialogsystem Anpassungen an die Erfordernisse der Arbeitsaufgabe, individuelle Vorlieben des Benutzers und Benutzerfähigkeiten zuläss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rnförderlichkeit</a:t>
            </a:r>
            <a:r>
              <a:rPr b="0" lang="de-DE" sz="1600" spc="-1" strike="noStrike">
                <a:solidFill>
                  <a:srgbClr val="000000"/>
                </a:solidFill>
                <a:latin typeface="Arial"/>
              </a:rPr>
              <a:t>: Ein Dialog ist lernförderlich, wenn er dem Benutzer beim Erlernen des Dialogsystems unterstützt und anleit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2T23:05:29Z</dcterms:modified>
  <cp:revision>87</cp:revision>
  <dc:subject/>
  <dc:title>PowerPoint Presentation</dc:title>
</cp:coreProperties>
</file>