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Software V: Branchensoftware in der Pf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79F9-F1D4-4381-B436-33D533C68D07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flegeplan.d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icotec.de/" TargetMode="External"/><Relationship Id="rId2" Type="http://schemas.openxmlformats.org/officeDocument/2006/relationships/hyperlink" Target="http://www.pharmamedconcept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Pflege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plangest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Geocon Dienstpla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geocon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Pflegemeister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pflegeplan.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ww.pflegeplanung-software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zentriert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 DocuMedis - Wunddokumentation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www.medicotec.de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pharmamedconcept.com</a:t>
            </a:r>
            <a:br>
              <a:rPr sz="1600"/>
            </a:b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ftware Qualität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im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kunftsaussich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3Z</dcterms:modified>
  <cp:revision>66</cp:revision>
  <dc:subject/>
  <dc:title>PowerPoint Presentation</dc:title>
</cp:coreProperties>
</file>