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2. Informations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F5FD-C380-4AF8-9AA1-05D89B911692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s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lemlösung in der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arf eines Vertrauensverhältnisses zwischen Leitung und Mitarbeitern im Betrie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darf keine Angst haben, etwas nicht zu könn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 müssen erkannt und erfass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fehler -&gt; eventl. Verbesserung der Bedienerfüh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-Fehler -&gt; eventl. 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nfalls bleiben die Fehler besteh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8:49:40Z</dcterms:modified>
  <cp:revision>66</cp:revision>
  <dc:subject/>
  <dc:title>PowerPoint Presentation</dc:title>
</cp:coreProperties>
</file>