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7CAE-8A5C-4954-ACEB-6D5F90E37C0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flegeplan.d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icotec.de/" TargetMode="External"/><Relationship Id="rId2" Type="http://schemas.openxmlformats.org/officeDocument/2006/relationships/hyperlink" Target="http://www.pharmamedconcept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Geocon Dienstpla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geoco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Pflegemeister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pflegeplan.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pflegeplanung-softwar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zentriert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DocuMedis - Wunddokumentation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medicotec.de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pharmamedconcept.com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Qualität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kunftsaussich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3Z</dcterms:modified>
  <cp:revision>66</cp:revision>
  <dc:subject/>
  <dc:title>PowerPoint Presentation</dc:title>
</cp:coreProperties>
</file>