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13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28.png" ContentType="image/png"/>
  <Override PartName="/ppt/media/image5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Hardware I: Rechnertypen und -komponen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E787-8633-4A85-A6BA-CF6F24321DF4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-online.de/" TargetMode="External"/><Relationship Id="rId2" Type="http://schemas.openxmlformats.org/officeDocument/2006/relationships/hyperlink" Target="http://www.e-online.de/" TargetMode="External"/><Relationship Id="rId3" Type="http://schemas.openxmlformats.org/officeDocument/2006/relationships/hyperlink" Target="http://www.e-online.de/" TargetMode="External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bios-info.de/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glossar.de/" TargetMode="External"/><Relationship Id="rId2" Type="http://schemas.openxmlformats.org/officeDocument/2006/relationships/hyperlink" Target="http://glossary.ges-training.de/glossar/" TargetMode="External"/><Relationship Id="rId3" Type="http://schemas.openxmlformats.org/officeDocument/2006/relationships/hyperlink" Target="http://www.computer-woerterbuch.de/" TargetMode="External"/><Relationship Id="rId4" Type="http://schemas.openxmlformats.org/officeDocument/2006/relationships/hyperlink" Target="http://www.computer-woerterbuch.de/" TargetMode="External"/><Relationship Id="rId5" Type="http://schemas.openxmlformats.org/officeDocument/2006/relationships/hyperlink" Target="http://www.computer-woerterbuch.de/" TargetMode="External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ner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416320" y="1742400"/>
            <a:ext cx="4311360" cy="3733920"/>
            <a:chOff x="2416320" y="1742400"/>
            <a:chExt cx="4311360" cy="3733920"/>
          </a:xfrm>
        </p:grpSpPr>
        <p:sp>
          <p:nvSpPr>
            <p:cNvPr id="53" name="_s5132"/>
            <p:cNvSpPr/>
            <p:nvPr/>
          </p:nvSpPr>
          <p:spPr>
            <a:xfrm flipV="1">
              <a:off x="2416320" y="4729680"/>
              <a:ext cx="4311360" cy="746280"/>
            </a:xfrm>
            <a:custGeom>
              <a:avLst/>
              <a:gdLst>
                <a:gd name="textAreaLeft" fmla="*/ 588600 w 4311360"/>
                <a:gd name="textAreaRight" fmla="*/ 3722760 w 4311360"/>
                <a:gd name="textAreaTop" fmla="*/ 101880 h 746280"/>
                <a:gd name="textAreaBottom" fmla="*/ 64440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ersonalcomputer (P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_s5135"/>
            <p:cNvSpPr/>
            <p:nvPr/>
          </p:nvSpPr>
          <p:spPr>
            <a:xfrm flipV="1">
              <a:off x="2847960" y="3981960"/>
              <a:ext cx="3448080" cy="747720"/>
            </a:xfrm>
            <a:custGeom>
              <a:avLst/>
              <a:gdLst>
                <a:gd name="textAreaLeft" fmla="*/ 518760 w 3448080"/>
                <a:gd name="textAreaRight" fmla="*/ 2929320 w 3448080"/>
                <a:gd name="textAreaTop" fmla="*/ 112320 h 747720"/>
                <a:gd name="textAreaBottom" fmla="*/ 63540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Work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_s5131"/>
            <p:cNvSpPr/>
            <p:nvPr/>
          </p:nvSpPr>
          <p:spPr>
            <a:xfrm flipV="1">
              <a:off x="3278160" y="3236760"/>
              <a:ext cx="2587680" cy="745920"/>
            </a:xfrm>
            <a:custGeom>
              <a:avLst/>
              <a:gdLst>
                <a:gd name="textAreaLeft" fmla="*/ 449280 w 2587680"/>
                <a:gd name="textAreaRight" fmla="*/ 2138400 w 2587680"/>
                <a:gd name="textAreaTop" fmla="*/ 129240 h 745920"/>
                <a:gd name="textAreaBottom" fmla="*/ 616680 h 74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tand-Alone-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5134"/>
            <p:cNvSpPr/>
            <p:nvPr/>
          </p:nvSpPr>
          <p:spPr>
            <a:xfrm flipV="1">
              <a:off x="3710160" y="2488320"/>
              <a:ext cx="1723680" cy="747720"/>
            </a:xfrm>
            <a:custGeom>
              <a:avLst/>
              <a:gdLst>
                <a:gd name="textAreaLeft" fmla="*/ 379080 w 1723680"/>
                <a:gd name="textAreaRight" fmla="*/ 1344600 w 1723680"/>
                <a:gd name="textAreaTop" fmla="*/ 164160 h 747720"/>
                <a:gd name="textAreaBottom" fmla="*/ 58356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ainframes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0,5 bis 15 Mio. €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5130"/>
            <p:cNvSpPr/>
            <p:nvPr/>
          </p:nvSpPr>
          <p:spPr>
            <a:xfrm flipV="1">
              <a:off x="4140360" y="1742040"/>
              <a:ext cx="863280" cy="746280"/>
            </a:xfrm>
            <a:custGeom>
              <a:avLst/>
              <a:gdLst>
                <a:gd name="textAreaLeft" fmla="*/ 309600 w 863280"/>
                <a:gd name="textAreaRight" fmla="*/ 553680 w 863280"/>
                <a:gd name="textAreaTop" fmla="*/ 267840 h 746280"/>
                <a:gd name="textAreaBottom" fmla="*/ 47844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uper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20 bis 30 Mio. €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ckb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table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rcode-Leseger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ührungsempfindliche Geräte (Touchscreen, Mousepad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ip-Karten-Leseger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krofon (Spracheinga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Tastat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rekte Zeichenein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-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en mit Zusatzfun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belverbindung / F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 der 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ag der Ta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s die Tastatur Ihr ständiges Arbeitsmittel zur Dateneingabe ist. Eine gute Tastatur rechtfertigt auch eine entsprechende Mehrausgab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herstellerspezifische Tasten! Falls doch: Einführung der Tastatur im gesamten Unte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Funktionen der „Standard-Sondertasten“ kennen (F-Tasten, Esc-Taste, Strg-Taste, Alt-Taste, Windows-Taste, Druck-Ta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23814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Ma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 des Mauszei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-M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wei Ta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Scroll-R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belverbindung / F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s- / Rechtshä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Maus ist weniger störanfäll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maus benötigt ständig Batter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atztasten benötigen auch zusätzliche Trei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207792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Sc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lesen bestehender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allel / USB-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-Scanner (schne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zahl der Scan-Vorgänge pro T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 der Vorlage (z.B. DIN A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ute Dokumentenscanner zur Zeit noch sehr teu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: Zusatzkosten durch gut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erkennung (OCR = Optical Character Recogn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227640" y="4653000"/>
            <a:ext cx="2210040" cy="1628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285768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 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en Sie Standard-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Geräte mit Zusatzfunktionen. (Bedenke: Lernaufw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ungen vor dem K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as Eingabegerät wirklich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die Geräteleistung den Anforderungen (Bsp.: Einscannen von Dokumenten sehr zeitaufwändig. Profigeräte hingegen sehr teuer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notwendige Schnittstelle zum Anschluss des Gerätes vorhan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en Sie, wie viele Mitarbeiter das Zehn-Finger-System beherrsch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ntscheidend für den „Zeitfaktor Dateneingabe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uell Schulung in Betracht ziehen. (große Zeitersparn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schi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nwand-Projektoren (Beam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utspre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krofil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59280" y="981000"/>
            <a:ext cx="2406600" cy="2406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Bildschi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öhrenmonitor (Bildbe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 (Textver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estgröße 17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1“-Monitor für Bild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 15“ ist gleich Röhre 17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wiederholfrequenz (min. 70 Hert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lösung (min. 1024 * 768 Pix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r Kontrast &amp; Hellig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O'99 Prüfsiegel (Ergonom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s (Flachbildschirme sind teu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qualitativ hochwertiger Bildschirm lohnt sich bei langen Bildschirm-Arbeitszeiten in jedem F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gleichen Sie die Monitore nebeneinander. (Sichtkontrol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e sind teurer, jedoch absolut flimmerfrei. Deshalb sehr gute Eignung für Textverarbei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372360" y="2349360"/>
            <a:ext cx="2033280" cy="2376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0" y="155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1844640"/>
            <a:ext cx="201636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er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ntenstrahl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del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zialgerä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o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rmo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ypenrad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stScript-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Laser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schneller Druck (bis 30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Druck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 Druckkosten (5 C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bdruck sehr 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erdrucker sind der Standard im betrieblichen 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gebiet: Text- und Formular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nahme: Farbdruck (in der Regel reicht ein Tintenstrahldru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12000" y="1341360"/>
            <a:ext cx="21603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Tintenstrahl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 Druckgeschwindigkeit (10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Druck-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ünstiger Farbdruck (kleine Aufla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 Druckkosten (10 Cent Schwarz-Wei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billiger der Drucker, desto teurer das Verbrauchsmaterial (Tint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nen sich für mittleren Druckaufw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ute Eignung für gelegentliche Farbdruc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 Geräte ermöglichen sehr guten Foto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72360" y="1052640"/>
            <a:ext cx="20937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- Kompone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1484280"/>
            <a:ext cx="3313080" cy="46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hä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1916280"/>
            <a:ext cx="19432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ntral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Motherboa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83000" y="3933720"/>
            <a:ext cx="194292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440" y="1916280"/>
            <a:ext cx="194292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1916280"/>
            <a:ext cx="194328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2421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2421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49600" y="299736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Nadel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mulardruck mit Durchschlägen mög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gsame Druckgeschwindigkei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5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niedrige Druckkost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1 Cent pro Se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echte Druck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Farbdruck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noch sinnvoll, wen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schläge erwünsch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 nicht von Bedeutung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940360" y="1413000"/>
            <a:ext cx="227988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Lautsprec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no / Ster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bwover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round-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en akustische Ausg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fordern eigenen Stellpl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Zukunft von Bedeutung, da akustische Rückmeldung und Spracheingabe und Sprachausgabe zunehm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round-Sound nicht notwe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l. Monitor mit integriertem Lautsprecher benut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443640" y="4797360"/>
            <a:ext cx="1587600" cy="1295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333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Entscheidungshil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 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en Sie Standard-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Geräte mit Zusatzfunktionen. (Bedenke: Lernaufw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ungen vor dem K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as Ausgabegerät wirklich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das Gerät von mehreren Rechnern gleichzeitig benutzt werden? (z.B. Dru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nd dafür Zusatzgeräte notwendig (z.B. Print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das Gerät im Standard-Betrieb lei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das Gerät in Ausnahmefällen leisten? (z.B. Farbdru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bt es arbeitsergonomische Vorgaben (die verbindlich sind)?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.B. Bildschirmarbeitsplatzverordn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„Mainboard“ oder „Hauptplatine“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chtigste Bestand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ips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-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ckplätze (Speicher, Karte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u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s im Internet:</a:t>
            </a:r>
            <a:br>
              <a:rPr sz="16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e-online.d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796000" y="1844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834080" y="2030400"/>
            <a:ext cx="34369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Prozess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tlich: Mikro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CPU b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PU = Central Processing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 AMD und I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eht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ordinierung der Befeh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hrt die Berechnungen du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-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eitkomma-Rech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tge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itiiert die einzelnen Stromimpu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MHz entspricht 1 Mio. Takte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317520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Chipsa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t den Datenfluss zwis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peicher (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 (EIDE, AGP, US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ystem (PCI, I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er Chipsatz benötigt einen eigenen Treib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 = Random Access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 genannter „flüchtiger Speicher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Daten werden bei Stromunterbrechung gelös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peichert alle Daten während des Rechnerbetrieb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Sehr schneller Datenzugrif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ckplätze werden als SIMM-Module bezeichn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Single In-line Memory Modu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 ist abhängig von der verwendeten Software. Für den Arbeitsplatzrechner in der Pflege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. 128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x. 512 MB RAM sinnv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 bei Serversyst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35280" y="4797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59280" y="3854520"/>
            <a:ext cx="3095640" cy="2166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075280" y="3710160"/>
            <a:ext cx="1687320" cy="736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BI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= Basic Input Outpu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uch als BIOS-ROM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OM = Read Only Memory (nicht flüchtiger Speic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Daten bleiben auch erhalten, wenn der Rechner vom Stromnetz getrenn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onderheit des BIOS-RO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einstellungen bleiben immer erhal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stellungen des Benutzers bleiben nur erhalten, solange die Batterie des Motherboards funktionstüchtig is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stellt den hardwareseitigen Teil des Betriebssystems d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alle hardwareseitigen Einstellungen, z.B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stplatte (Anzahl der Spuren, Sektore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treihenfolge (zuerst von Diskette oder Festplat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Informationen zu Einstellungen unter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bios-info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ower-on-Self-Test (PO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wird angesprochen und dessen Befehle abgearbei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lauf des POST-Vorgangs (Was wird geprüft?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-System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uhr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karte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peicher (RAM)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 angeschloss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t-Laufwerk wird gesucht –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e Hardware wird erkan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ponenten mit eigenem BIOS werden erkannt und geprüft (SCSI, Plug &amp; Play-Komponen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des softwareseitigen Betriebssystems (vom Bootlaufwer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Bus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ie Weiterleitung der Daten zwischen den einzelnen Komponen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nsportiert Daten zwischen Prozessor und Hauptspeic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ss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st die entsprechende Adresse 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t ob Daten gelesen oder geschrieb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 von Bussystemen (siehe auch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 action="ppaction://hlinksldjump"/>
              </a:rPr>
              <a:t>Steckplä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Deskt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eines Mitarbei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nitor kann auf dem Rechner platzie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nung: Arbeitsplatz mit häufigem Zugriff auf Diskettenlaufwerk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 nach Hersteller wenig bis keine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wierigerer Austausch von Komponenten (z.B. Festplat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 der Anschaffung sollte der benötigte Stellplatz bedacht werden. Voraussetzung ist ein großflächiger Bürotis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24360" y="4508640"/>
            <a:ext cx="2533680" cy="1428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7885080" y="4508640"/>
            <a:ext cx="21600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Datenspeich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standard: E-IDE = Enhanced Integrated Device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uss für Festplatten, CD-ROM- und DVD-Laufwer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übertragungsverfahren UDM = Ultra Direct Memory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ie direkte Datenübertragung zwischen Festplatte und Arbeitsspeicher unter Umgehung der CP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DMA 66, 100, 133 (höherer Wert = größerer Datendurchsat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drehungen 5.400 oder 7.200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fall SCS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 = Small Computer System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chleistungsanschluss fü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 Datenübertra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rminierung erforder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fü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stpla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3436920" cy="2406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686640" y="3643200"/>
            <a:ext cx="1081080" cy="9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 = Accelerated Graphics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t für Grafikka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 = Peripheral Component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2-Bi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ug &amp;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Netzwerk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 = Industry Standard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 bis 16-Bi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Plug &amp;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Netzwerk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76960" y="1052640"/>
            <a:ext cx="3233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 &gt; Grafikkar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der grafischen Ausgabe der Daten auf dem Bildschi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 nutzt den AGP-Steckplat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seltenen Fällen auch Karten für PCI-Steckplat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g. Dual-Head-Karten zum Betrieb von zwei Monit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 Karte nur für Bildbearbeitung oder Spiele notwendig. Ansonsten reicht eine Standard-Karte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s nach Auflös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40 * 48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V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00 * 60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24 * 768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280 * 1024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600 * 120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48 * 1536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76720" y="2708280"/>
            <a:ext cx="3240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 &gt; Weitere Ka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-Karten sind veraltet und können in neuen Rechnern nicht mehr verwend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zeitiger Standard: PCI-Kar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s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ndkarte: ermöglicht Ein- und Ausgabe von Audiosigna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karte: ermöglicht die Verbindung mehrerer lokaler Rech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n zur Verbindung mit dem Int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DN-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SL-Adapter (enthält Modem und Netzwerkka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ätzliche Schnittstell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USB-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r Parallel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-Schnitts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ID-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allele-Schnittstell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äte wie, Drucker, Scanner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och häufig im Einsa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ielle-Schnittstelle (12, 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altete 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S/2-Schnittstelle (2 und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us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statur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deo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nitor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dio-Anschlüsse: Eingang (6), Ausgang (7), Mikrofon (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B-Anschluss = Universal Serial Bus (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s zu 127 Gerä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iversell einsetzbar (Maus, Drucker, Scanner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zwerkanschluss (4) mit Kontrollleuchte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rDA-Anschluss = Infrared Device Adapter = Infrarot-Schnittstelle (meist Lapt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rewire-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selten verwendet, jedoch immer häufiger im Rechner ent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Datenübertragungs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-Anschluss (bis zu 15 Gerä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356000" y="620640"/>
            <a:ext cx="4608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 Speichermedien versteht man im weiteren Sinne alle Hardware-Komponenten, die der Aufbewahrung von Daten dienen (z.B. ROM, RAM, Diskette, Festplatt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lltag (sprich: im engeren Sinne) bezeichnet man mit dem Begriff Speichermedien alle Komponenten, die der nicht flüchtigen Datenspeicherung dienen und eine Datenspeicherung durch den Nutzer zul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go: Man meint damit nicht ROM und R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peichermedien bezeichnet man auch als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xterne Speich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ho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gnetspeicher (Diskette, ZIP-Diskette, Festplatte, Magnetband, Magnetka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Speicher (CD-ROM, DVD-R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üher: Lochk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nangab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K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Kilo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M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Mega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K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48.576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G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Giga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M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073.741.824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TB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 Terabyte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.024 GB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.099.511.627.776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- Disket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öße versus Speicherkapazitä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½ Zoll = 1,44 MB oder 72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¼ Zoll = 1,2 MB oder 36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 Zoll = 18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relativ) preis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reibschutz manuell aktivierb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er Datenaustausch, da praktisch jeder Rechner ein Diskettenlaufwerk besitz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speicherte Daten sind „handhabbar“ und damit leichter zu „begreifen“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beschädi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r Nutzen bei großen Dateien (z.B. Bil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meiden Sie Kontakt zu Magnetfeldern (z.B. Lautsprech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utz vor extremer Kälte und Wärme (z.B. Au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utz vor Staub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gnetscheibe nicht berühr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1333440" cy="1419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20000" y="3573360"/>
            <a:ext cx="1422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E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ch als Harddisk (aus dem englischen) bezeich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kapazitä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ann stark vari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zwischen 20 MB und 120 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preis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e Speicherkapaz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nge Lebensda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großen Datenmengen, Datenaustausch nur per Netzwerk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ädigung der Festplatte führt zum totalen Datenverlu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chselfestplatt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t keine Festplatte im eigentlichen Sin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elmehr kann die Festplatte in einem austauschbaren Rahmen eingebau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mit können mehrere Festplatten zur Datensicherung verwend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: Die Festplatte ist somit mobil und kann an einem sicheren Ort aufbewah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E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961920"/>
            <a:ext cx="8136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SCS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 = Small Computer System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-Festplatten unterscheiden sich äußerlich durch eine andere Steckverbind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 Meist nur im Server-Betr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onderhe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letzte SCSI-Gerät muss „terminiert“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erbei handelt es sich um einen Aufsatz, der den Bus abschließ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auf eine Terminierung verzichtet, kommt es zum Datenverlust bzw. das Gerät funktioniert nich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schneller Festplatten-Zugri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 (im Vergleich mit EIDE-Festplat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duzierte Speicherkapazität im Vergleich zu EIDE-Festplat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Mini T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eines Mitarbei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hner kann Platz sparend unter dem Tisch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ute Möglichkeiten zur Erweiter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ötigt eigenen Stellpla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 von Störungen durch Fußtrit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am häufigsten gekaufter Gehäusety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4437000"/>
            <a:ext cx="2533680" cy="1428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H="1">
            <a:off x="6877080" y="3716280"/>
            <a:ext cx="288720" cy="1009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ZIP-Laufwe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Iome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handelt sich um eine Art „Diskette“, jedoch mit erweiterter Speicherkapazitä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s zu 750 MB Speicherkapaz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fach zu transport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chere Datenspeicherung (im Vergleich zu Disket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P-Laufwerk zum Lesen des Mediums erforder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Vergleich zu Festplatten recht te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CD-Laufwer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speicherung auf CD‘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= Compact D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ung nach Art des Laufwer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Laufwerke, die nur lesen kön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Laufwerke, die lesen und schreiben können (sog. CD-Bren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ung nach Art des Medium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= CD, die nur gelesen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R = CD, die einmal beschrieben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RW = CD, die mehrfach beschrieben und gelöscht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preisgünstiges Speichermedium (50 CD-R = 17 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t relativ große Datenmengen (600 bis 700 M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Brenner erforderlich (ca. 100 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Preis-Leistungs-Verhältnis (meist) das beste Speichermedium zur Datensicher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wichtig ist die Datensicheru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 Priorität: private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 Priorität: berufsbezogene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Priorität: Unternehmens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häufig müssen Daten gesicher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sicher ist das Speichermediu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: Dis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ch: Festpla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ch: mehrere Kopien im Bankf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teuer ist das Speichermediu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kosten (z.B. Festplatte, CD-RW Laufwerk, Bandlaufwerk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rauchsmaterialien (z.B. Disketten, CD-ROMs, Bän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brechungsfreie Stromversor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SV = Unterbrechungsfreie Stromversor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ständiges Gerät, dass die Stromversorgung des Rechners während eines Stromausfalls gewährleis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handelt sich um einen Akkumulator, der die 220 Volt Versorgung sicher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tromversorgung bei totalem Stromausfall ist in der Regel bis zu 30 Minuten sicher 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line USV: Rechner wird nur bei Stromausfall von der USV ver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line USV: Rechner wird ständig von der USV ver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spannungen werden geglättet (nur offline-U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Stromausfall führt nicht zu Datenverlu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ätzliche Kosten für die Anschaffung des Gerä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bedingt auf die Leistung des Gerätes (Watt) achten. Dementsprechend viele (oder wenige) Verbraucher können angeschloss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1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das teuerste Produkt ist auch das beste Produk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ufen Sie – wenn möglich – den selben Computer mehrfach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Enormes Einsparpotenzial von Wartungsarbei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ieren Sie sich über neue Technolog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klärungen zu Abkürzungen im Hardware-Sektor finden sich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glossar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uch als Download verfügb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glossary.ges-training.de/glossar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www.computer-woerterbuch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steigerung mit Einbuß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: Je größer die Leistung, desto eher müssen die Rahmenbedingungen beach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 „leistungsstarker Prozessor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rer Zugriff auf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er: im Betrieb lauter, da größerer Lüfter eingesetzt werden mu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: teures Wasserkühlungs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2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puter-Neukauf für den Betrie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vorzugen Sie Fertig-Systeme eines bekannten Computer-Herstellers (keinen Supermarkt-P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Grund: Je häufiger das System verkauft wird, desto sicherer kann man sein, dass die Komponenten gut aufeinander abgestimm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Grund: Supermarkt-PCs sollen möglichst viele verschiedene Möglichkeiten bieten (sprich: für jeden etwas dabei). Folge: Die Anzahl der Störfaktoren erhöht sich und damit die Fehleranfällig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„selbst gebastelte“ Modelle eines kleinen Händ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: Praktisch tägliche Änderung der Komponenten. Folge: Der Händler kann nicht abschätzen, ob die Komponenten tatsächlich fehlerfrei miteinander arb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Funk-Komponenten (Tastatur, Maus, Netzwerkkarte), da zur Zeit keine Abhörsicherheit gewährleistet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3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nittstellen-Analys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en Sie vor dem Kauf, welche Schnittstellen benötig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 in der Regel (nur) 5 PCI-Steckplätze zur Verfügung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 z.B. hochwertige Grafikkarten einen freien Steckplatz zusätzlich benötigen, um Überhitzung zu vermei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-board-Schnittstellen schaffen freie PCI-Steckplätz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Problem: Ist die Komponente defekt, funktioniert u.U. das gesamte Motherboard nicht meh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Problem: Die Beschaffung geeigneter Treiber kann u.U. große Schwierigkeiten ber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. Problem: On-board-Schnittstellen können nicht ausgebaut werden. Achten Sie daher auf die Möglichkeit, das Gerät im BIOS deaktivieren zu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Big T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mit vielen Zusatzgerä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zügige Erweiterungsmöglichke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gute Lüftungsverhältnisse (Folge: verminderter Wärmesta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ist zu groß für Standard-Schranksysteme (Folge: Rechner muss frei steh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uer in der Anschaff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Platzangebot im Gehäuse wird meist nicht ausgenutzt. Die Anschaffung ist daher in vielen Fällen überflüssi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35640" y="4508640"/>
            <a:ext cx="2533680" cy="1428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>
            <a:off x="4427640" y="5157720"/>
            <a:ext cx="100800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Server Gehä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einere Unternehmensserv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robuste Konstruk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gute Lüft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r sinnvoll, wenn es sich tatsächlich um einen Server hand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spricht in der Größe dem eines Big Tow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588000" y="2492280"/>
            <a:ext cx="1791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- Ra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größe: 19 Z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nehmensserver, Netzwerk-Vertei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zügige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häuseschrank ist gleichzeitig „Klimakammer“. Daher hohe Gerätesicherh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er Ein- und Ausbau von Komponen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r Platzverbrau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 für größere Netzwerk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724360" y="2997360"/>
            <a:ext cx="25052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Tragbare Comp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llwertige Rechner: Laptop, Not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hner mit Notizfunktion: Handheld, Orga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biler Arbeitspla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transporti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äsentationen vor Ort möglich (z.B. mit Powerpoin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(interne)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gleichsweise schlechtere Geräteausstattung (z.B. Bildschirm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leichte Möglichkeit eines Diebstahls (insbesondere der Daten!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r sinnvoll, wenn tatsächlich ein mobiles Gerät benötigt wi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bedingt den Funktionsumfang bewert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724360" y="1197000"/>
            <a:ext cx="25401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häuse enthält Netztei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uschpegel des Lüfters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reichende Ausgangsleistung (300 bis 350 Wat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uschdämmung (Dämm-Mat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cht zu öffnen (möglichst nicht verschraub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bile Konstruktion (lose Gehäuseteile könnten schnarr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be (auffällig oder dezent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7T17:03:50Z</dcterms:modified>
  <cp:revision>139</cp:revision>
  <dc:subject/>
  <dc:title>PowerPoint Presentation</dc:title>
</cp:coreProperties>
</file>