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3BEA-681C-4F79-85EE-BFDB0EF1BBF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08:14Z</dcterms:modified>
  <cp:revision>67</cp:revision>
  <dc:subject/>
  <dc:title>PowerPoint Presentation</dc:title>
</cp:coreProperties>
</file>