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Hardware II: Netzwe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EC3-AD09-433F-803E-DD90BAF551B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dwar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zwe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bindungssteck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Kupfer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NC (a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RJ-45 (n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Glasfa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r Funk (sog. Wireless 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echnologien sind zur Zeit noch nicht abhörsich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4535640"/>
            <a:ext cx="1150920" cy="1125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06600" y="3718080"/>
            <a:ext cx="12970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91760" y="5900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J-45 St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4880" y="36450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-Stü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5600" y="56134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NC Ter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zu dient ein Rechnernetz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Rechnernetz dient dem direkten Datenaustaus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ischen zwei oder mehreren Rechn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dafür notwendigen Komponen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Kabel, Netzwerk-Adapter, Programme etc.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eichnet man in ihrer Gesamtheit als „Rechnernetz“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n eines Netzwe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r und schneller Datenaustausch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, weil: kein Daten-Austauschmedium notwendig (z.B. Diske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, weil: sehr schnelle Übertragungsrat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bei werden die Daten auf einem Rechner gespeichert und von diesem den anderen Rechnern zur Verfügung gestellt.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te können gemeinsam genutzt werd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Drucker, der von allen Teilnehmern genutzt werden kan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ntrale Software-Nutzung möglich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Auf einem Rechner wird die Software installiert, alle anderen Rechner können diese nutz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fache Wartung der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: Bei fehlerhafter Software sind alle Rechner betrof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top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317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Netzwerktopologie beschreibt den strukturellen Aufbau eines Netzwerkes. Sie beantwortet die Frage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Rechner miteinander verbunden sind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sarten (siehe Grafik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vermaschte Net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auch wenn mehrere Rechner ausfallen, sind die funktionsfähigen untereinander noch erreich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tei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sehr hohe Kosten für die Verkabelu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16640" y="1052640"/>
            <a:ext cx="3016080" cy="4608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013440" y="5891040"/>
            <a:ext cx="2087640" cy="71640"/>
            <a:chOff x="6013440" y="5891040"/>
            <a:chExt cx="2087640" cy="71640"/>
          </a:xfrm>
        </p:grpSpPr>
        <p:sp>
          <p:nvSpPr>
            <p:cNvPr id="61" name=""/>
            <p:cNvSpPr/>
            <p:nvPr/>
          </p:nvSpPr>
          <p:spPr>
            <a:xfrm>
              <a:off x="6013440" y="589104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6108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0872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29440" y="589104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38640" y="59292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29440" y="596268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n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dehnungen von Netzwer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teilt ein Netzwerk nach seiner Ausdehn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 = Local Area Network oder „lok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 einem räumlich begrenzten Geb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 MBit/Sek. bis 1 GBit/S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= Metropolitan Area Network oder „Stadt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r Stadt oder Großunterneh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100 MBit/Sek. bis 1 G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N = Wide Area Network oder „Weitverkehrs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innerhalb eines Landes oder mehrer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tragungsrate: 64 KBit/Sek. bis 600 MBit/Sek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AN = Global Area Network oder „globales Netz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indung von Rechnern weltw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militärisches Netzwerk, weltweit agierende Unterne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Peer to 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Rechner sind gleichberechti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Rechner kann Dienstleistungen für einen anderen Rechner leisten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 des Druckers eines anderen Rech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blem: Die Arbeitsleistung des beanspruchten Rechners vermindert s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ung: Einsatz eines Client-Server-Netzwe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5400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Client-Server(-Prinz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Server“ übernimmt eine oder mehrere Aufgaben für alle „Clients“ im Netzwerk, z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i-Server (zur Datenspeich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-Server (zur Verwaltung der Druckaufträ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-Server (zur Verwaltung der E-Mai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x-Server (zur Verwaltung von Telefax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„Client“ nutzt die Arbeitsleistung des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08360" y="3573360"/>
            <a:ext cx="409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werkart: Strukturiertes Netz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in größeren Firmen verwendet, um das Netzwerk logisch aufzutei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bei werden die Mitarbeiter einer Abteilung (bzw. Berufsgruppe) zu einer „Gruppe“ zusammen gefasst, die sich in der Software widerspieg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Einer Gruppe können bestimmte Rechte verliehen werden.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Mitarbeiter der Gruppe „Pflege“ können auf die Dosierung der Medikation eines Patienten zugreifen. Die Gruppe „Pforte“ hat jedoch nur Zugriff auf die Stammdaten des Pati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ztechnologie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-Adap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: Netzwerkkarte, LAN-Adapter oder NIC (network interface c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r Netzwerk-Adapter besitzt eine eindeutige Adresse, die nicht veränderbar ist. Sie dient der sicheren Identifizierung des Rechners. Man bezeichnet diese Adresse auch als Node-Adr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95/98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ipcf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ittlung Win NT, 2000 und XP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pconfig /a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Eingabeaufford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tet die Daten vom Prozessor in da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pfängt Daten von anderen Rechnern aus dem Netzwerk und leitet diese an den Prozessor wei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nach Geschwindigke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 MBi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ältere Variante, jedoch noch häufig im Einsat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 MBit = sog. Fas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e Variante, die derzeit bei Neukauf eines Rechners den Standard darstel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00 MBit = GigaBit Ethernet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ur Zeit noch sehr teuer, da nur per Glasfaser-Verbindung realisierb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8T01:12:16Z</dcterms:modified>
  <cp:revision>71</cp:revision>
  <dc:subject/>
  <dc:title>PowerPoint Presentation</dc:title>
</cp:coreProperties>
</file>