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705960" y="3944160"/>
            <a:ext cx="770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3760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4440" y="1341360"/>
            <a:ext cx="3760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05960" y="3944160"/>
            <a:ext cx="3760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4440" y="3944160"/>
            <a:ext cx="3760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2481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1640" y="1341360"/>
            <a:ext cx="2481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916960" y="1341360"/>
            <a:ext cx="2481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705960" y="3944160"/>
            <a:ext cx="2481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1640" y="3944160"/>
            <a:ext cx="2481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916960" y="3944160"/>
            <a:ext cx="248112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3760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4440" y="1341360"/>
            <a:ext cx="3760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345600" y="431640"/>
            <a:ext cx="8425080" cy="20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3760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4440" y="1341360"/>
            <a:ext cx="3760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05960" y="3944160"/>
            <a:ext cx="3760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37602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4440" y="1341360"/>
            <a:ext cx="3760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4440" y="3944160"/>
            <a:ext cx="3760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3760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4440" y="1341360"/>
            <a:ext cx="37602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05960" y="3944160"/>
            <a:ext cx="77058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363600"/>
          </a:xfrm>
          <a:prstGeom prst="rect">
            <a:avLst/>
          </a:prstGeom>
          <a:gradFill rotWithShape="0">
            <a:gsLst>
              <a:gs pos="0">
                <a:srgbClr val="55524f"/>
              </a:gs>
              <a:gs pos="100000">
                <a:srgbClr val="000e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41520" cy="35892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8453520" y="28440"/>
            <a:ext cx="655560" cy="28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9196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8268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70172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120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120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12076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95280" y="1198440"/>
            <a:ext cx="3963600" cy="3959280"/>
            <a:chOff x="395280" y="1198440"/>
            <a:chExt cx="3963600" cy="3959280"/>
          </a:xfrm>
        </p:grpSpPr>
        <p:sp>
          <p:nvSpPr>
            <p:cNvPr id="6" name=""/>
            <p:cNvSpPr/>
            <p:nvPr/>
          </p:nvSpPr>
          <p:spPr>
            <a:xfrm>
              <a:off x="399960" y="1198440"/>
              <a:ext cx="3958920" cy="17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e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95280" y="1198440"/>
              <a:ext cx="17280" cy="3959280"/>
            </a:xfrm>
            <a:prstGeom prst="rect">
              <a:avLst/>
            </a:prstGeom>
            <a:gradFill rotWithShape="0">
              <a:gsLst>
                <a:gs pos="0">
                  <a:srgbClr val="000e9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4840200" y="2409840"/>
            <a:ext cx="3959280" cy="3975120"/>
            <a:chOff x="4840200" y="2409840"/>
            <a:chExt cx="3959280" cy="3975120"/>
          </a:xfrm>
        </p:grpSpPr>
        <p:sp>
          <p:nvSpPr>
            <p:cNvPr id="9" name=""/>
            <p:cNvSpPr/>
            <p:nvPr/>
          </p:nvSpPr>
          <p:spPr>
            <a:xfrm flipH="1" flipV="1">
              <a:off x="4840200" y="6367680"/>
              <a:ext cx="3959280" cy="17280"/>
            </a:xfrm>
            <a:prstGeom prst="rect">
              <a:avLst/>
            </a:prstGeom>
            <a:gradFill rotWithShape="0">
              <a:gsLst>
                <a:gs pos="0">
                  <a:srgbClr val="55524f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8779680" y="2409840"/>
              <a:ext cx="17640" cy="3959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55524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6510240"/>
            <a:ext cx="9144000" cy="363600"/>
          </a:xfrm>
          <a:prstGeom prst="rect">
            <a:avLst/>
          </a:prstGeom>
          <a:gradFill rotWithShape="0">
            <a:gsLst>
              <a:gs pos="0">
                <a:srgbClr val="55524f"/>
              </a:gs>
              <a:gs pos="100000">
                <a:srgbClr val="000e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68120" y="361800"/>
            <a:ext cx="9504360" cy="6812280"/>
          </a:xfrm>
          <a:prstGeom prst="rect">
            <a:avLst/>
          </a:prstGeom>
          <a:gradFill rotWithShape="0">
            <a:gsLst>
              <a:gs pos="0">
                <a:srgbClr val="55524f"/>
              </a:gs>
              <a:gs pos="100000">
                <a:srgbClr val="000e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881440" y="973080"/>
            <a:ext cx="3600360" cy="3598920"/>
            <a:chOff x="2881440" y="973080"/>
            <a:chExt cx="3600360" cy="3598920"/>
          </a:xfrm>
        </p:grpSpPr>
        <p:grpSp>
          <p:nvGrpSpPr>
            <p:cNvPr id="50" name=""/>
            <p:cNvGrpSpPr/>
            <p:nvPr/>
          </p:nvGrpSpPr>
          <p:grpSpPr>
            <a:xfrm>
              <a:off x="2881440" y="973080"/>
              <a:ext cx="3598920" cy="3598920"/>
              <a:chOff x="2881440" y="973080"/>
              <a:chExt cx="3598920" cy="3598920"/>
            </a:xfrm>
          </p:grpSpPr>
          <p:sp>
            <p:nvSpPr>
              <p:cNvPr id="51" name=""/>
              <p:cNvSpPr/>
              <p:nvPr/>
            </p:nvSpPr>
            <p:spPr>
              <a:xfrm>
                <a:off x="2881440" y="1476360"/>
                <a:ext cx="3598920" cy="17640"/>
              </a:xfrm>
              <a:prstGeom prst="rect">
                <a:avLst/>
              </a:prstGeom>
              <a:gradFill rotWithShape="0">
                <a:gsLst>
                  <a:gs pos="0">
                    <a:srgbClr val="59524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2881440" y="4124520"/>
                <a:ext cx="3598920" cy="17280"/>
              </a:xfrm>
              <a:prstGeom prst="rect">
                <a:avLst/>
              </a:prstGeom>
              <a:gradFill rotWithShape="0">
                <a:gsLst>
                  <a:gs pos="0">
                    <a:srgbClr val="59524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4014720" y="973080"/>
                <a:ext cx="17640" cy="359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492720" y="3129120"/>
                <a:ext cx="180000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3132360" y="2770200"/>
                <a:ext cx="180000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492720" y="2409840"/>
                <a:ext cx="180000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4248360" y="1693800"/>
              <a:ext cx="22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urier New"/>
                </a:rPr>
                <a:t>E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-Commer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911840" y="255744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248360" y="3395520"/>
              <a:ext cx="22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Krankenha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168120" y="361800"/>
            <a:ext cx="9504360" cy="615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2760" y="2133720"/>
            <a:ext cx="8135640" cy="22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ine explorative Stud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es Bra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-185760" y="5958000"/>
            <a:ext cx="971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Ines Bra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-152280" y="5410080"/>
            <a:ext cx="9524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Vorteile für Geschäfts- und Handelsaktivitäten auf Internetbasis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523880" y="1395360"/>
          <a:ext cx="6591600" cy="46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395360"/>
                    <a:ext cx="6591600" cy="46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616161"/>
                </a:solidFill>
                <a:latin typeface="Arial"/>
                <a:ea typeface="Times New Roman"/>
              </a:rPr>
              <a:t>Elektronische Handelsbeziehungen via Internet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Technische Hindernis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T nicht flächendeckend installi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zeptanzproblem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ersönliche Kommunikation fällt w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cherheitsbedenk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 sind nicht ausreichend geschütz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Nachteile und Proble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Perspektiven des Electronic Commerce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C/Internet: Selbstverständlichkeitsprinzi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formation-Brokerage: Fort- und Weiterbild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eistungen übers Internet vermark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bindung über den Aufenthalt hin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wierigkeiten im Einkaufsbereich überwi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-Procurement: Beschaffung optimier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Sor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wischenmenschliche Beziehungen werden verdräng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lectronic Commerce-Reifegradmodell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1640" y="1341360"/>
            <a:ext cx="384012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IT-Grundla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 15 KH-Probanden (Management) vorhan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EC-Anwendu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gezeichnet (1+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kein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hr gut (1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2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ut (2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10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friedigend (3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2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wach (4)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1 K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511280"/>
          <a:ext cx="37339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11280"/>
                    <a:ext cx="37339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  <a:ea typeface="Arial"/>
              </a:rPr>
              <a:t>Trend des Electronic Commerce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28760" y="1549440"/>
          <a:ext cx="647856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549440"/>
                    <a:ext cx="647856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Diskussion der Trendaussagen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2C: Evidence-Based Medi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banken: Therapie-/Behandlungs-Empfeh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2B: Standardisier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heitlicher Medicalprodukte-Katalog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duziertes Sortimentangebo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edicalgeschäftspartner bauen gemeinsam E-Marktplätze au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unden-Pflege: Face-to-Face Kunden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B2A: Datenschutzrechtliche Bedenken beseit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lektronische Sicherheits-System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gitale Signat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-168120" y="361800"/>
            <a:ext cx="9504360" cy="6812280"/>
          </a:xfrm>
          <a:prstGeom prst="rect">
            <a:avLst/>
          </a:prstGeom>
          <a:gradFill rotWithShape="0">
            <a:gsLst>
              <a:gs pos="0">
                <a:srgbClr val="55524f"/>
              </a:gs>
              <a:gs pos="100000">
                <a:srgbClr val="000e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881440" y="973080"/>
            <a:ext cx="3600360" cy="3598920"/>
            <a:chOff x="2881440" y="973080"/>
            <a:chExt cx="3600360" cy="3598920"/>
          </a:xfrm>
        </p:grpSpPr>
        <p:grpSp>
          <p:nvGrpSpPr>
            <p:cNvPr id="120" name=""/>
            <p:cNvGrpSpPr/>
            <p:nvPr/>
          </p:nvGrpSpPr>
          <p:grpSpPr>
            <a:xfrm>
              <a:off x="2881440" y="973080"/>
              <a:ext cx="3598920" cy="3598920"/>
              <a:chOff x="2881440" y="973080"/>
              <a:chExt cx="3598920" cy="3598920"/>
            </a:xfrm>
          </p:grpSpPr>
          <p:sp>
            <p:nvSpPr>
              <p:cNvPr id="121" name=""/>
              <p:cNvSpPr/>
              <p:nvPr/>
            </p:nvSpPr>
            <p:spPr>
              <a:xfrm>
                <a:off x="2881440" y="1476360"/>
                <a:ext cx="3598920" cy="17640"/>
              </a:xfrm>
              <a:prstGeom prst="rect">
                <a:avLst/>
              </a:prstGeom>
              <a:gradFill rotWithShape="0">
                <a:gsLst>
                  <a:gs pos="0">
                    <a:srgbClr val="59524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881440" y="4124520"/>
                <a:ext cx="3598920" cy="17280"/>
              </a:xfrm>
              <a:prstGeom prst="rect">
                <a:avLst/>
              </a:prstGeom>
              <a:gradFill rotWithShape="0">
                <a:gsLst>
                  <a:gs pos="0">
                    <a:srgbClr val="59524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014720" y="973080"/>
                <a:ext cx="17640" cy="359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92720" y="3129120"/>
                <a:ext cx="180000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132360" y="2770200"/>
                <a:ext cx="180000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492720" y="2409840"/>
                <a:ext cx="180000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4248360" y="1693800"/>
              <a:ext cx="22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urier New"/>
                </a:rPr>
                <a:t>E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-Mark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911840" y="255744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48360" y="3395520"/>
              <a:ext cx="22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Krankenha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-168120" y="361800"/>
            <a:ext cx="9504360" cy="615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2760" y="2133720"/>
            <a:ext cx="8135640" cy="29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präch zweier Mitarbeiter der Unternehmensberatu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„Transfer“ über die Ergebnisse ihrer Projek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r Bockholt: E-Marketing Beauftrag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rr Heil: EDV Beauftrag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185760" y="595800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Stephan Bockho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67320" y="5958000"/>
            <a:ext cx="47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ndreas He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-152280" y="5410080"/>
            <a:ext cx="95248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58920" y="431640"/>
            <a:ext cx="842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Wussten Sie schon?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98200" y="1341000"/>
            <a:ext cx="305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r Kunde im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19560" y="1341000"/>
            <a:ext cx="305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s Krankenhaus im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1903320"/>
            <a:ext cx="30589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Prozent der Bevölkeru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utzt das Int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98560" y="4286160"/>
            <a:ext cx="30589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m Computerfrea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Alltagsnutz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98560" y="5473800"/>
            <a:ext cx="3058920" cy="68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mfangreiche Daten zum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tzer des Internet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98560" y="3076560"/>
            <a:ext cx="30589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kes medizinisch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sbedürfn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4081320" y="1903320"/>
            <a:ext cx="4097520" cy="684360"/>
            <a:chOff x="4081320" y="1903320"/>
            <a:chExt cx="4097520" cy="684360"/>
          </a:xfrm>
        </p:grpSpPr>
        <p:sp>
          <p:nvSpPr>
            <p:cNvPr id="145" name=""/>
            <p:cNvSpPr/>
            <p:nvPr/>
          </p:nvSpPr>
          <p:spPr>
            <a:xfrm>
              <a:off x="5119560" y="1903320"/>
              <a:ext cx="305928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 Prozent d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rankenhäuser sind online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081320" y="2247840"/>
              <a:ext cx="935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4079880" y="3076560"/>
            <a:ext cx="4098960" cy="684360"/>
            <a:chOff x="4079880" y="3076560"/>
            <a:chExt cx="4098960" cy="684360"/>
          </a:xfrm>
        </p:grpSpPr>
        <p:sp>
          <p:nvSpPr>
            <p:cNvPr id="148" name=""/>
            <p:cNvSpPr/>
            <p:nvPr/>
          </p:nvSpPr>
          <p:spPr>
            <a:xfrm>
              <a:off x="5119560" y="3076560"/>
              <a:ext cx="305928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ringe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tionsangebot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9880" y="3416400"/>
              <a:ext cx="934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4079880" y="4286160"/>
            <a:ext cx="4098960" cy="684360"/>
            <a:chOff x="4079880" y="4286160"/>
            <a:chExt cx="4098960" cy="684360"/>
          </a:xfrm>
        </p:grpSpPr>
        <p:sp>
          <p:nvSpPr>
            <p:cNvPr id="151" name=""/>
            <p:cNvSpPr/>
            <p:nvPr/>
          </p:nvSpPr>
          <p:spPr>
            <a:xfrm>
              <a:off x="5119560" y="4286160"/>
              <a:ext cx="305928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ientierun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 Patienten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79880" y="4635360"/>
              <a:ext cx="934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079880" y="5473800"/>
            <a:ext cx="4098960" cy="684000"/>
            <a:chOff x="4079880" y="5473800"/>
            <a:chExt cx="4098960" cy="684000"/>
          </a:xfrm>
        </p:grpSpPr>
        <p:sp>
          <p:nvSpPr>
            <p:cNvPr id="154" name=""/>
            <p:cNvSpPr/>
            <p:nvPr/>
          </p:nvSpPr>
          <p:spPr>
            <a:xfrm>
              <a:off x="5119560" y="5473800"/>
              <a:ext cx="305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aum Daten zum Nutz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er KH-Internetpräsenz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79880" y="5816520"/>
              <a:ext cx="934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Was erwartet Sie?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492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0600" y="653904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E-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8772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z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13400" y="653904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h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14196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6764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506600" y="6548400"/>
            <a:ext cx="6118200" cy="252360"/>
            <a:chOff x="1506600" y="6548400"/>
            <a:chExt cx="6118200" cy="252360"/>
          </a:xfrm>
        </p:grpSpPr>
        <p:sp>
          <p:nvSpPr>
            <p:cNvPr id="164" name=""/>
            <p:cNvSpPr/>
            <p:nvPr/>
          </p:nvSpPr>
          <p:spPr>
            <a:xfrm>
              <a:off x="150660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912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7200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04308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480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2836800" y="3067200"/>
            <a:ext cx="34592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rketing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 Krankenh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2286000" y="3784680"/>
            <a:ext cx="2286000" cy="2627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Was erwartet Sie?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92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60600" y="653904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08772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Potenz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613400" y="653904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h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4196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6764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506600" y="6548400"/>
            <a:ext cx="6118200" cy="252360"/>
            <a:chOff x="1506600" y="6548400"/>
            <a:chExt cx="6118200" cy="252360"/>
          </a:xfrm>
        </p:grpSpPr>
        <p:sp>
          <p:nvSpPr>
            <p:cNvPr id="179" name=""/>
            <p:cNvSpPr/>
            <p:nvPr/>
          </p:nvSpPr>
          <p:spPr>
            <a:xfrm>
              <a:off x="150660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9912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7200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308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62480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2836800" y="3067200"/>
            <a:ext cx="34592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tenziale d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rke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809880" y="3784680"/>
            <a:ext cx="762120" cy="2627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Forschungsfrage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che Bedeutung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che Möglichkeiten und Grenze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elche Zukunf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zeigt E-Commerce für das Krankenhaus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Management im B2C, B2B und B2A au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Was erwartet Sie?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492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60600" y="653904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08772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z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613400" y="653904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Meth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14196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6764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506600" y="6548400"/>
            <a:ext cx="6118200" cy="252360"/>
            <a:chOff x="1506600" y="6548400"/>
            <a:chExt cx="6118200" cy="252360"/>
          </a:xfrm>
        </p:grpSpPr>
        <p:sp>
          <p:nvSpPr>
            <p:cNvPr id="194" name=""/>
            <p:cNvSpPr/>
            <p:nvPr/>
          </p:nvSpPr>
          <p:spPr>
            <a:xfrm>
              <a:off x="150660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9912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57200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04308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62480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2836800" y="3067200"/>
            <a:ext cx="34592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ische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rge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4571640" y="3784680"/>
            <a:ext cx="762120" cy="2627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Was erwartet Sie?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92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60600" y="653904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Mark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08772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tenzi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13400" y="6539040"/>
            <a:ext cx="14396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th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4196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"/>
              </a:rPr>
              <a:t>Ergebnis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667640" y="6539040"/>
            <a:ext cx="14400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az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506600" y="6548400"/>
            <a:ext cx="6118200" cy="252360"/>
            <a:chOff x="1506600" y="6548400"/>
            <a:chExt cx="6118200" cy="252360"/>
          </a:xfrm>
        </p:grpSpPr>
        <p:sp>
          <p:nvSpPr>
            <p:cNvPr id="209" name=""/>
            <p:cNvSpPr/>
            <p:nvPr/>
          </p:nvSpPr>
          <p:spPr>
            <a:xfrm>
              <a:off x="150660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09912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200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4308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24800" y="6548400"/>
              <a:ext cx="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2836800" y="3067200"/>
            <a:ext cx="34592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gebnisse der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ersuch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4572000" y="3784680"/>
            <a:ext cx="2209680" cy="2627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Fragestellungen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7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219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226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1" name=""/>
          <p:cNvSpPr/>
          <p:nvPr/>
        </p:nvSpPr>
        <p:spPr>
          <a:xfrm>
            <a:off x="704880" y="1341360"/>
            <a:ext cx="7705800" cy="49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orin bestehen die Marketing-Potenzial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 Internets für das Krankenhau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4880" y="1341360"/>
            <a:ext cx="7705800" cy="49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04880" y="1341360"/>
            <a:ext cx="7705800" cy="498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welchem Maße werden di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rketing-Potenziale des Internet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om Krankenhaus genutz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-Marketing im Krankenhaus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38120" y="5911920"/>
            <a:ext cx="6478560" cy="3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unehmende Orientierung am Mar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Auf dem Weg zum E-Mark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238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4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245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"/>
          <p:cNvSpPr/>
          <p:nvPr/>
        </p:nvSpPr>
        <p:spPr>
          <a:xfrm>
            <a:off x="2058840" y="4846680"/>
            <a:ext cx="5038920" cy="3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ategisches 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778120" y="3784680"/>
            <a:ext cx="3598920" cy="3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undenorientier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494160" y="2709720"/>
            <a:ext cx="2158920" cy="39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rk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402080" y="1338120"/>
            <a:ext cx="331920" cy="262080"/>
          </a:xfrm>
          <a:prstGeom prst="triangle">
            <a:avLst>
              <a:gd name="adj" fmla="val 50000"/>
            </a:avLst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4575240" y="3165120"/>
            <a:ext cx="0" cy="2564280"/>
            <a:chOff x="4575240" y="3165120"/>
            <a:chExt cx="0" cy="2564280"/>
          </a:xfrm>
        </p:grpSpPr>
        <p:sp>
          <p:nvSpPr>
            <p:cNvPr id="255" name=""/>
            <p:cNvSpPr/>
            <p:nvPr/>
          </p:nvSpPr>
          <p:spPr>
            <a:xfrm flipV="1">
              <a:off x="4575240" y="316512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575240" y="5297400"/>
              <a:ext cx="0" cy="43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V="1">
              <a:off x="4575240" y="4246200"/>
              <a:ext cx="0" cy="4316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-Marketing im Krankenhaus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standteile des E-Marketin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tzung der Neuen Medi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weiterter Marketingm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ildung von Präferenzen beim K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Was ist E-Market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262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8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269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Potenziale des E-Marketings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2385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 statische Internetpräs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1. Nutzung der Neuen Medien (Beispiel: Internetpräsen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278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4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285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"/>
          <p:cNvSpPr/>
          <p:nvPr/>
        </p:nvSpPr>
        <p:spPr>
          <a:xfrm>
            <a:off x="755640" y="299736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aktuelle Internetpräs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5640" y="403380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interaktive Internetpräs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5640" y="496584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338560" y="24638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338560" y="4437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338560" y="34574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65520" y="1628640"/>
            <a:ext cx="363852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rstellung der Leis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schrift des Krankenha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fahrtsskiz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94200" y="21621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Potenziale des E-Marketings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2385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statische Internetpräs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1. Nutzung der Neuen Medien (Beispiel: Internetpräsen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302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309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4" name=""/>
          <p:cNvSpPr/>
          <p:nvPr/>
        </p:nvSpPr>
        <p:spPr>
          <a:xfrm>
            <a:off x="755640" y="299736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 aktuelle Internetpräs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5640" y="403380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interaktive Internetpräs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55640" y="496584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338560" y="24638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338560" y="4437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338560" y="34574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65520" y="2665440"/>
            <a:ext cx="363852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ktualisierte Inhal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gesaktuelle Neuigkei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esseinformati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994200" y="3213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Potenziale des E-Marketings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2385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statische Internetpräs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1. Nutzung der Neuen Medien (Beispiel: Internetpräsen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326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2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333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755640" y="299736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aktuelle Internetpräs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5640" y="403380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 interaktive Internetpräs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5640" y="496584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4. 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338560" y="24638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338560" y="4437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38560" y="34574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65520" y="3645000"/>
            <a:ext cx="36385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fragen per E-M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kussions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wnload von Inhal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94200" y="417672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Potenziale des E-Marketings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755640" y="1988640"/>
            <a:ext cx="32385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1. statische Internetpräsen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1. Nutzung der Neuen Medien (Beispiel: Internetpräsenz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350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357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2" name=""/>
          <p:cNvSpPr/>
          <p:nvPr/>
        </p:nvSpPr>
        <p:spPr>
          <a:xfrm>
            <a:off x="755640" y="299736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2. aktuelle Internetpräs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5640" y="403380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</a:rPr>
              <a:t>3. interaktive Internetpräsen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5640" y="4965840"/>
            <a:ext cx="3238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. E-Comme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338560" y="2463840"/>
            <a:ext cx="0" cy="431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338560" y="443700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38560" y="3457440"/>
            <a:ext cx="0" cy="432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65520" y="4594320"/>
            <a:ext cx="3638520" cy="107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weisung von Patien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nkauf und Beschaff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kauf ambulanter Leis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994200" y="514188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Potenziale des E-Marketings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weiterung des Krankenhaus-Marketings u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äzise Segmentierung des Mark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kt maßgeschneiderte Dienstleist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ngfristige Bindung des Kunden an das Kranken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ktiver Dialog mit dem Kun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616161"/>
                </a:solidFill>
                <a:latin typeface="Arial"/>
              </a:rPr>
              <a:t>2. Erweiterter Marketingmi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374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0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381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Herangehensweise an das Projekt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rschließen der Theo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twicklung eines Forschungsdesig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erheb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uswertung der Ergebnis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skussion der Trendauss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Potenziale des E-Marketings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schung zur Patientenzufriedenhe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ernleistu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04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he medizinische Qualitä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04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ividuelle Betreuung und umfassende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ahmenleistung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04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ssere Koordination der Versorg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76240" indent="-30456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gebot zusätzlicher Leis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3. Bildung von Präferenzen beim Kund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390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397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0" y="604440"/>
            <a:ext cx="9144000" cy="579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e Untersuchu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Methodisches Vorgehen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325620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blauf der Untersuchun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teraturrecher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runtersu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ä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auptuntersuchu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Eckdaten der Untersuch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407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414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19" name=""/>
          <p:cNvGrpSpPr/>
          <p:nvPr/>
        </p:nvGrpSpPr>
        <p:grpSpPr>
          <a:xfrm>
            <a:off x="3368520" y="2576520"/>
            <a:ext cx="4784400" cy="1871640"/>
            <a:chOff x="3368520" y="2576520"/>
            <a:chExt cx="4784400" cy="1871640"/>
          </a:xfrm>
        </p:grpSpPr>
        <p:sp>
          <p:nvSpPr>
            <p:cNvPr id="420" name=""/>
            <p:cNvSpPr/>
            <p:nvPr/>
          </p:nvSpPr>
          <p:spPr>
            <a:xfrm>
              <a:off x="4554360" y="2576520"/>
              <a:ext cx="3598560" cy="187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88 Bewertungskriteri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ichprobe: 134 Krankenhäus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inimal: Innere Medizin, Chirurgie,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Gynäkologie/Geburtshilf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87200" indent="-187200">
                <a:lnSpc>
                  <a:spcPct val="100000"/>
                </a:lnSpc>
                <a:spcBef>
                  <a:spcPts val="1001"/>
                </a:spcBef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ximal: 650 Bett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368520" y="3519720"/>
              <a:ext cx="1187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rgebnisse der Untersuchung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5188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ankenha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teil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ienten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nt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arb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gangsmöglich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utzerfreundlich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Untersuchte Themenkomplex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426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433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8" name=""/>
          <p:cNvSpPr/>
          <p:nvPr/>
        </p:nvSpPr>
        <p:spPr>
          <a:xfrm>
            <a:off x="2768760" y="1600200"/>
            <a:ext cx="3598560" cy="1800360"/>
          </a:xfrm>
          <a:prstGeom prst="ellipse">
            <a:avLst/>
          </a:prstGeom>
          <a:noFill/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rgebnisse der Untersuchung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Das Krankenhaus stellt sich v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442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449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54" name=""/>
          <p:cNvGraphicFramePr/>
          <p:nvPr/>
        </p:nvGraphicFramePr>
        <p:xfrm>
          <a:off x="1328760" y="1549440"/>
          <a:ext cx="647856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549440"/>
                    <a:ext cx="647856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rgebnisse der Untersuchung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Das Krankenhaus stellt sich v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459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466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71" name=""/>
          <p:cNvGraphicFramePr/>
          <p:nvPr/>
        </p:nvGraphicFramePr>
        <p:xfrm>
          <a:off x="1328760" y="1549440"/>
          <a:ext cx="647856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549440"/>
                    <a:ext cx="647856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rgebnisse der Untersuchung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Informationstiefe medizinischer Einricht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476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483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488" name=""/>
          <p:cNvGraphicFramePr/>
          <p:nvPr/>
        </p:nvGraphicFramePr>
        <p:xfrm>
          <a:off x="1328760" y="1549440"/>
          <a:ext cx="647856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549440"/>
                    <a:ext cx="647856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rgebnisse der Untersuchung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Informationstiefe nicht-medizinischer Einricht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493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500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05" name=""/>
          <p:cNvGraphicFramePr/>
          <p:nvPr/>
        </p:nvGraphicFramePr>
        <p:xfrm>
          <a:off x="677880" y="1544760"/>
          <a:ext cx="7792920" cy="45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544760"/>
                    <a:ext cx="7792920" cy="45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rgebnisse der Untersuchung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Informationstiefe nicht-medizinischer Einricht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510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6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517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22" name=""/>
          <p:cNvGraphicFramePr/>
          <p:nvPr/>
        </p:nvGraphicFramePr>
        <p:xfrm>
          <a:off x="677880" y="1544760"/>
          <a:ext cx="7792920" cy="45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544760"/>
                    <a:ext cx="7792920" cy="45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"/>
          <p:cNvSpPr/>
          <p:nvPr/>
        </p:nvSpPr>
        <p:spPr>
          <a:xfrm>
            <a:off x="1523880" y="35384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Betriebsrat (2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438280" y="30924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rbeitssicherheit (4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962520" y="26352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Zivildienstleistende (7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1981080" y="3886200"/>
            <a:ext cx="609840" cy="14479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2590920" y="3429000"/>
            <a:ext cx="1143000" cy="18288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3581280" y="3047760"/>
            <a:ext cx="1905120" cy="20574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rgebnisse der Untersuchung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Informationstiefe nicht-medizinischer Einricht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533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9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540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45" name=""/>
          <p:cNvGraphicFramePr/>
          <p:nvPr/>
        </p:nvGraphicFramePr>
        <p:xfrm>
          <a:off x="677880" y="1544760"/>
          <a:ext cx="7792920" cy="45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544760"/>
                    <a:ext cx="7792920" cy="45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7" name=""/>
          <p:cNvSpPr/>
          <p:nvPr/>
        </p:nvSpPr>
        <p:spPr>
          <a:xfrm>
            <a:off x="3505320" y="2884320"/>
            <a:ext cx="213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eelso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19720" y="24382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Ausbildungseinricht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943600" y="198108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hysiotherap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4572000" y="3276360"/>
            <a:ext cx="1828800" cy="10666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5892480" y="2819520"/>
            <a:ext cx="1346040" cy="9144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 flipV="1">
            <a:off x="7416720" y="2361960"/>
            <a:ext cx="432000" cy="160020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lectronic Commerce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r Electronic Commerce-Begri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ktionen im E-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2B-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insparpotentiale durch E-Commerc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2B-Internet-Sel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ooperationen im We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Theoretische Hintergrün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rgebnisse der Untersuchung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Informationstiefe nicht-medizinischer Einrichtung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556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2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563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68" name=""/>
          <p:cNvGraphicFramePr/>
          <p:nvPr/>
        </p:nvGraphicFramePr>
        <p:xfrm>
          <a:off x="677880" y="1544760"/>
          <a:ext cx="7792920" cy="45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1544760"/>
                    <a:ext cx="7792920" cy="45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0" name=""/>
          <p:cNvSpPr/>
          <p:nvPr/>
        </p:nvSpPr>
        <p:spPr>
          <a:xfrm>
            <a:off x="3200400" y="296064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Ärztliche Dire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43400" y="251460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Pflegedire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638680" y="2057400"/>
            <a:ext cx="297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Verwaltungsdirek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4267080" y="3308040"/>
            <a:ext cx="3200400" cy="20257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5638680" y="2850840"/>
            <a:ext cx="2438640" cy="233028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7162560" y="2438280"/>
            <a:ext cx="1098360" cy="2819520"/>
          </a:xfrm>
          <a:prstGeom prst="line">
            <a:avLst/>
          </a:prstGeom>
          <a:ln w="2556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rgebnisse der Untersuchung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Informationen für den Pati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579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586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591" name=""/>
          <p:cNvGraphicFramePr/>
          <p:nvPr/>
        </p:nvGraphicFramePr>
        <p:xfrm>
          <a:off x="1328760" y="1549440"/>
          <a:ext cx="647856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549440"/>
                    <a:ext cx="647856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rgebnisse der Untersuchung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Informationen für den Patien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596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603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08" name=""/>
          <p:cNvGraphicFramePr/>
          <p:nvPr/>
        </p:nvGraphicFramePr>
        <p:xfrm>
          <a:off x="1009800" y="1544760"/>
          <a:ext cx="6783120" cy="43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9800" y="1544760"/>
                    <a:ext cx="67831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rgebnisse der Untersuchung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Einsatz interaktiver Medi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613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9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620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625" name=""/>
          <p:cNvGraphicFramePr/>
          <p:nvPr/>
        </p:nvGraphicFramePr>
        <p:xfrm>
          <a:off x="706320" y="1544760"/>
          <a:ext cx="7809120" cy="43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1544760"/>
                    <a:ext cx="780912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58920" y="431640"/>
            <a:ext cx="8424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Fazit der Untersuchung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898200" y="1341000"/>
            <a:ext cx="30589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t-Zu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5119560" y="1341000"/>
            <a:ext cx="30592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ll-Zust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98560" y="1903320"/>
            <a:ext cx="30589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kus au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izinischen Leistung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98560" y="4286160"/>
            <a:ext cx="30589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chränkung auf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isinformation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898560" y="5473800"/>
            <a:ext cx="3058920" cy="684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schränkung auf E-Mai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r Kommunik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898560" y="3076560"/>
            <a:ext cx="3058920" cy="6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nig 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en Patient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4" name=""/>
          <p:cNvGrpSpPr/>
          <p:nvPr/>
        </p:nvGrpSpPr>
        <p:grpSpPr>
          <a:xfrm>
            <a:off x="4081320" y="1903320"/>
            <a:ext cx="4097520" cy="684360"/>
            <a:chOff x="4081320" y="1903320"/>
            <a:chExt cx="4097520" cy="684360"/>
          </a:xfrm>
        </p:grpSpPr>
        <p:sp>
          <p:nvSpPr>
            <p:cNvPr id="635" name=""/>
            <p:cNvSpPr/>
            <p:nvPr/>
          </p:nvSpPr>
          <p:spPr>
            <a:xfrm>
              <a:off x="5119560" y="1903320"/>
              <a:ext cx="305928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fassend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nternehmenspräsentation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081320" y="2247840"/>
              <a:ext cx="93528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79880" y="3076560"/>
            <a:ext cx="4098960" cy="684360"/>
            <a:chOff x="4079880" y="3076560"/>
            <a:chExt cx="4098960" cy="684360"/>
          </a:xfrm>
        </p:grpSpPr>
        <p:sp>
          <p:nvSpPr>
            <p:cNvPr id="638" name=""/>
            <p:cNvSpPr/>
            <p:nvPr/>
          </p:nvSpPr>
          <p:spPr>
            <a:xfrm>
              <a:off x="5119560" y="3076560"/>
              <a:ext cx="305928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mittlung der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atientenrelevanten Bedarfe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079880" y="3416400"/>
              <a:ext cx="934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079880" y="4286160"/>
            <a:ext cx="4098960" cy="684360"/>
            <a:chOff x="4079880" y="4286160"/>
            <a:chExt cx="4098960" cy="684360"/>
          </a:xfrm>
        </p:grpSpPr>
        <p:sp>
          <p:nvSpPr>
            <p:cNvPr id="641" name=""/>
            <p:cNvSpPr/>
            <p:nvPr/>
          </p:nvSpPr>
          <p:spPr>
            <a:xfrm>
              <a:off x="5119560" y="4286160"/>
              <a:ext cx="3059280" cy="68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rmittlung der notwendigen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formationstiefe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079880" y="4635360"/>
              <a:ext cx="934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3" name=""/>
          <p:cNvGrpSpPr/>
          <p:nvPr/>
        </p:nvGrpSpPr>
        <p:grpSpPr>
          <a:xfrm>
            <a:off x="4079880" y="5473800"/>
            <a:ext cx="4098960" cy="684000"/>
            <a:chOff x="4079880" y="5473800"/>
            <a:chExt cx="4098960" cy="684000"/>
          </a:xfrm>
        </p:grpSpPr>
        <p:sp>
          <p:nvSpPr>
            <p:cNvPr id="644" name=""/>
            <p:cNvSpPr/>
            <p:nvPr/>
          </p:nvSpPr>
          <p:spPr>
            <a:xfrm>
              <a:off x="5119560" y="5473800"/>
              <a:ext cx="3059280" cy="68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ezielte Nutzung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aktiver Medien!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79880" y="5816520"/>
              <a:ext cx="934920" cy="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Zusammenfassung und Schlussfolgerungen für die Prax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34920" y="6539040"/>
            <a:ext cx="9072720" cy="287280"/>
            <a:chOff x="34920" y="6539040"/>
            <a:chExt cx="9072720" cy="287280"/>
          </a:xfrm>
        </p:grpSpPr>
        <p:sp>
          <p:nvSpPr>
            <p:cNvPr id="648" name=""/>
            <p:cNvSpPr/>
            <p:nvPr/>
          </p:nvSpPr>
          <p:spPr>
            <a:xfrm>
              <a:off x="349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Fr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606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-Market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08772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tenzia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613400" y="6539040"/>
              <a:ext cx="1439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th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14196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Ergebniss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667640" y="6539040"/>
              <a:ext cx="1440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6600"/>
                  </a:solidFill>
                  <a:latin typeface="Arial"/>
                </a:rPr>
                <a:t>Faz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4" name=""/>
            <p:cNvGrpSpPr/>
            <p:nvPr/>
          </p:nvGrpSpPr>
          <p:grpSpPr>
            <a:xfrm>
              <a:off x="1506600" y="6548400"/>
              <a:ext cx="6118200" cy="252360"/>
              <a:chOff x="1506600" y="6548400"/>
              <a:chExt cx="6118200" cy="252360"/>
            </a:xfrm>
          </p:grpSpPr>
          <p:sp>
            <p:nvSpPr>
              <p:cNvPr id="655" name=""/>
              <p:cNvSpPr/>
              <p:nvPr/>
            </p:nvSpPr>
            <p:spPr>
              <a:xfrm>
                <a:off x="15066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09912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5720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304308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624800" y="6548400"/>
                <a:ext cx="0" cy="252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Und demnächst ...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80640" y="1066320"/>
            <a:ext cx="8991720" cy="534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Ergebnisse und Analy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Praxisempfehlun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Best-Practice Beispi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99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Hintergrundinf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Die Publikation zur Stud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-168120" y="361800"/>
            <a:ext cx="9504360" cy="6812280"/>
          </a:xfrm>
          <a:prstGeom prst="rect">
            <a:avLst/>
          </a:prstGeom>
          <a:gradFill rotWithShape="0">
            <a:gsLst>
              <a:gs pos="0">
                <a:srgbClr val="55524f"/>
              </a:gs>
              <a:gs pos="100000">
                <a:srgbClr val="000e9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2881440" y="973080"/>
            <a:ext cx="3600360" cy="3598920"/>
            <a:chOff x="2881440" y="973080"/>
            <a:chExt cx="3600360" cy="3598920"/>
          </a:xfrm>
        </p:grpSpPr>
        <p:grpSp>
          <p:nvGrpSpPr>
            <p:cNvPr id="665" name=""/>
            <p:cNvGrpSpPr/>
            <p:nvPr/>
          </p:nvGrpSpPr>
          <p:grpSpPr>
            <a:xfrm>
              <a:off x="2881440" y="973080"/>
              <a:ext cx="3598920" cy="3598920"/>
              <a:chOff x="2881440" y="973080"/>
              <a:chExt cx="3598920" cy="3598920"/>
            </a:xfrm>
          </p:grpSpPr>
          <p:sp>
            <p:nvSpPr>
              <p:cNvPr id="666" name=""/>
              <p:cNvSpPr/>
              <p:nvPr/>
            </p:nvSpPr>
            <p:spPr>
              <a:xfrm>
                <a:off x="2881440" y="1476360"/>
                <a:ext cx="3598920" cy="17640"/>
              </a:xfrm>
              <a:prstGeom prst="rect">
                <a:avLst/>
              </a:prstGeom>
              <a:gradFill rotWithShape="0">
                <a:gsLst>
                  <a:gs pos="0">
                    <a:srgbClr val="59524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2881440" y="4124520"/>
                <a:ext cx="3598920" cy="17280"/>
              </a:xfrm>
              <a:prstGeom prst="rect">
                <a:avLst/>
              </a:prstGeom>
              <a:gradFill rotWithShape="0">
                <a:gsLst>
                  <a:gs pos="0">
                    <a:srgbClr val="59524f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014720" y="973080"/>
                <a:ext cx="17640" cy="359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3492720" y="3129120"/>
                <a:ext cx="1800000" cy="17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3132360" y="2770200"/>
                <a:ext cx="180000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92720" y="2409840"/>
                <a:ext cx="1800000" cy="17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4248360" y="1693800"/>
              <a:ext cx="223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urier New"/>
                </a:rPr>
                <a:t>E</a:t>
              </a: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-Mark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911840" y="2557440"/>
              <a:ext cx="144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i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248360" y="3395520"/>
              <a:ext cx="223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ourier New"/>
                </a:rPr>
                <a:t>Krankenha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-76320" y="5958000"/>
            <a:ext cx="9296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ir danken den Krankenhäus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lectronic Commerce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jede Art wirtschaftlicher Tätigkeit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auf der Basis elektronischer Verbindungen“</a:t>
            </a:r>
            <a:br>
              <a:rPr sz="18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Picot, A. 199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digitale Anbahnung, Aushandlung und/oder Abwicklung von Transaktionen zwischen Wirtschaftssubjekte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“</a:t>
            </a:r>
            <a:br>
              <a:rPr sz="18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Clement, M. 1999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... durch welche „Leistungs- und </a:t>
            </a:r>
            <a:br>
              <a:rPr sz="1800"/>
            </a:br>
            <a:r>
              <a:rPr b="0" i="1" lang="de-DE" sz="1800" spc="-1" strike="noStrike">
                <a:solidFill>
                  <a:srgbClr val="000000"/>
                </a:solidFill>
                <a:latin typeface="Arial"/>
              </a:rPr>
              <a:t>Zahlungsverpflichtungen ausgelöst werden“</a:t>
            </a:r>
            <a:br>
              <a:rPr sz="1800"/>
            </a:b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(Müller-Hagedorn, L. 1999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Definition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Akteure und Aktionen im E-Commerce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sumer (Endkonsument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siness (Unternehm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ministration (Öffentliche Institution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2C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siness-to-Consu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2B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siness-to-Bus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673200"/>
                <a:tab algn="l" pos="1054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2A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usiness-to-Adminis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Forschungsdesign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atenbanken-, Online-Recherche; Literaturanaly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nspektion der Krankenhaus-Home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 Explorative, halb-standardisierte Interviews mit dem Top-Management Berliner Krankenhäu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 u="sng">
                <a:solidFill>
                  <a:srgbClr val="000000"/>
                </a:solidFill>
                <a:uFillTx/>
                <a:latin typeface="Arial"/>
              </a:rPr>
              <a:t>Zi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. Benchmarking der Entscheider-Sichtweisen u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. Benchmarking der Krankenhaus-Homep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Aufbau und Zi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Electronic Commerce im Krankenhaus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5680" y="719280"/>
            <a:ext cx="8424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6161"/>
                </a:solidFill>
                <a:latin typeface="Arial"/>
              </a:rPr>
              <a:t>Die Stich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328760" y="1549440"/>
          <a:ext cx="647856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8760" y="1549440"/>
                    <a:ext cx="647856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5600" y="431640"/>
            <a:ext cx="84250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16161"/>
                </a:solidFill>
                <a:latin typeface="Arial"/>
              </a:rPr>
              <a:t>Auswertung und Ergebnisse</a:t>
            </a:r>
            <a:endParaRPr b="1" lang="en-US" sz="2000" spc="-1" strike="noStrike">
              <a:solidFill>
                <a:srgbClr val="616161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05960" y="1341360"/>
            <a:ext cx="77058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Homepage – Visitenkarte des Unternehm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fahrungen im Business-to-Business-Bere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Vorteile für Geschäfts- und Handelsaktivität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Nachteile und Probl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00000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2A-Anwend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erspektiven des Electronic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Electronic Commerce-Reifegradmod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451"/>
              </a:spcBef>
              <a:buClr>
                <a:srgbClr val="808080"/>
              </a:buClr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rend des Electronic Comme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6539040"/>
            <a:ext cx="91090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-Commerce im Krankenha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4T18:03:54Z</dcterms:created>
  <dc:creator>andreas</dc:creator>
  <dc:description/>
  <dc:language>en-US</dc:language>
  <cp:lastModifiedBy>andreas</cp:lastModifiedBy>
  <dcterms:modified xsi:type="dcterms:W3CDTF">2002-03-15T16:22:49Z</dcterms:modified>
  <cp:revision>19</cp:revision>
  <dc:subject/>
  <dc:title>PowerPoint-Präsentation</dc:title>
</cp:coreProperties>
</file>